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A58E-0D30-4B0D-A621-86DC87CC6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2995-1698-4C7A-97AD-92A7C27BD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A4FC-7A95-4A32-A018-5235BCABB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13A7-A052-4E7B-A3AE-7D8A7B271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8E958-87DA-4E98-AED6-8650B57D9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C2657-6D21-4CA2-81D1-EAA34714A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27C98-1983-41BD-8AEF-8B8FA7351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2F9DC-6326-4DDB-AF2E-C8D5DE014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92F02-56FC-4E18-BC16-D7CE99EAD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82296-4B8E-40DA-A6B0-8F24A9E78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CD171-8794-4025-AE92-621FD3B9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5E61-6D54-4056-A132-55AE36205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8BFA0-9E49-43FA-8CDF-98EEDD54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11462-3F37-4B53-9072-28B78FA4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D537F-EC5D-47B8-A89A-411A8E32F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D9641-16D1-4F12-B50D-1F989A63F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39A3A-67CD-46A9-932E-A0997F140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CC31-37D1-413B-93D6-1FC874664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0DF1-CFBB-4E4F-B795-F5A88433F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FAC8-04A7-44BC-8E41-F016342F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2AD4-5C05-4066-BFC2-04136F75F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30B8-EACC-413A-97E7-446BD8A9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60A5-B3BD-4D67-A6F4-677D1E14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7797-AE2D-4BD9-9DB6-3A8D3E11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b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b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b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b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b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ffffdd"/>
                </a:gs>
                <a:gs pos="100000">
                  <a:srgbClr val="efef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ffffdd"/>
                </a:gs>
                <a:gs pos="100000">
                  <a:srgbClr val="efef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ffff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ffff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BBB22-251B-46F5-AF49-51A147CDC81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b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b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b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b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b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ffffdd"/>
                </a:gs>
                <a:gs pos="100000">
                  <a:srgbClr val="efef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ffffdd"/>
                </a:gs>
                <a:gs pos="100000">
                  <a:srgbClr val="efef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ffff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ffff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8E486-85B2-465F-A92A-06DD1408D18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VhokQhjl5t0" TargetMode="External"/><Relationship Id="rId2" Type="http://schemas.openxmlformats.org/officeDocument/2006/relationships/hyperlink" Target="http://www.youtube.com/watch?v=VhokQhjl5t0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Lesson 1.1</a:t>
            </a:r>
            <a:br>
              <a:rPr sz="7500"/>
            </a:b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part two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unction notation is normally written as f(x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day’s Objective:  Be able to evaluate any fun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add4e"/>
                </a:solidFill>
                <a:uFillTx/>
                <a:latin typeface="Verdana"/>
                <a:hlinkClick r:id="rId1"/>
              </a:rPr>
              <a:t>YouTube</a:t>
            </a:r>
            <a:r>
              <a:rPr b="0" lang="en-US" sz="3200" spc="-1" strike="noStrike" u="sng">
                <a:solidFill>
                  <a:srgbClr val="fadd4e"/>
                </a:solidFill>
                <a:uFillTx/>
                <a:latin typeface="Verdana"/>
                <a:hlinkClick r:id="rId2"/>
              </a:rPr>
              <a:t> - Introduction to fun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(x) = 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+ 3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(5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(0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(-6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(m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2009880" y="1633680"/>
            <a:ext cx="687240" cy="1019160"/>
          </a:xfrm>
          <a:custGeom>
            <a:avLst/>
            <a:gdLst/>
            <a:ahLst/>
            <a:rect l="l" t="t" r="r" b="b"/>
            <a:pathLst>
              <a:path w="1911" h="2829">
                <a:moveTo>
                  <a:pt x="6077" y="4564"/>
                </a:moveTo>
                <a:cubicBezTo>
                  <a:pt x="6044" y="4575"/>
                  <a:pt x="6037" y="4640"/>
                  <a:pt x="6028" y="4688"/>
                </a:cubicBezTo>
                <a:cubicBezTo>
                  <a:pt x="6008" y="4789"/>
                  <a:pt x="6018" y="4909"/>
                  <a:pt x="6003" y="5011"/>
                </a:cubicBezTo>
                <a:cubicBezTo>
                  <a:pt x="5989" y="5109"/>
                  <a:pt x="5992" y="5211"/>
                  <a:pt x="5978" y="5308"/>
                </a:cubicBezTo>
                <a:cubicBezTo>
                  <a:pt x="5973" y="5345"/>
                  <a:pt x="5963" y="5645"/>
                  <a:pt x="5953" y="5631"/>
                </a:cubicBezTo>
                <a:cubicBezTo>
                  <a:pt x="5953" y="5623"/>
                  <a:pt x="5953" y="5614"/>
                  <a:pt x="5953" y="5606"/>
                </a:cubicBezTo>
              </a:path>
              <a:path w="1911" h="2829">
                <a:moveTo>
                  <a:pt x="6400" y="4762"/>
                </a:moveTo>
                <a:cubicBezTo>
                  <a:pt x="6400" y="4787"/>
                  <a:pt x="6400" y="4812"/>
                  <a:pt x="6400" y="4837"/>
                </a:cubicBezTo>
                <a:cubicBezTo>
                  <a:pt x="6373" y="4846"/>
                  <a:pt x="6361" y="4894"/>
                  <a:pt x="6350" y="4936"/>
                </a:cubicBezTo>
                <a:cubicBezTo>
                  <a:pt x="6342" y="4966"/>
                  <a:pt x="6332" y="4981"/>
                  <a:pt x="6325" y="5011"/>
                </a:cubicBezTo>
                <a:cubicBezTo>
                  <a:pt x="6287" y="5023"/>
                  <a:pt x="6288" y="5048"/>
                  <a:pt x="6325" y="5060"/>
                </a:cubicBezTo>
                <a:cubicBezTo>
                  <a:pt x="6338" y="5022"/>
                  <a:pt x="6355" y="5035"/>
                  <a:pt x="6400" y="5035"/>
                </a:cubicBezTo>
                <a:cubicBezTo>
                  <a:pt x="6424" y="5035"/>
                  <a:pt x="6433" y="5035"/>
                  <a:pt x="6449" y="5035"/>
                </a:cubicBezTo>
                <a:cubicBezTo>
                  <a:pt x="6463" y="5077"/>
                  <a:pt x="6497" y="5060"/>
                  <a:pt x="6548" y="5060"/>
                </a:cubicBezTo>
                <a:cubicBezTo>
                  <a:pt x="6616" y="5060"/>
                  <a:pt x="6644" y="5067"/>
                  <a:pt x="6697" y="5085"/>
                </a:cubicBezTo>
                <a:cubicBezTo>
                  <a:pt x="6730" y="5096"/>
                  <a:pt x="6786" y="5085"/>
                  <a:pt x="6821" y="5085"/>
                </a:cubicBezTo>
              </a:path>
              <a:path w="1911" h="2829">
                <a:moveTo>
                  <a:pt x="6722" y="4539"/>
                </a:moveTo>
                <a:cubicBezTo>
                  <a:pt x="6722" y="4692"/>
                  <a:pt x="6715" y="4840"/>
                  <a:pt x="6697" y="4986"/>
                </a:cubicBezTo>
                <a:cubicBezTo>
                  <a:pt x="6678" y="5135"/>
                  <a:pt x="6699" y="5295"/>
                  <a:pt x="6672" y="5432"/>
                </a:cubicBezTo>
                <a:cubicBezTo>
                  <a:pt x="6664" y="5472"/>
                  <a:pt x="6672" y="5548"/>
                  <a:pt x="6672" y="5507"/>
                </a:cubicBezTo>
              </a:path>
              <a:path w="1911" h="2829">
                <a:moveTo>
                  <a:pt x="7119" y="4663"/>
                </a:moveTo>
                <a:cubicBezTo>
                  <a:pt x="7119" y="4759"/>
                  <a:pt x="7123" y="4849"/>
                  <a:pt x="7094" y="4936"/>
                </a:cubicBezTo>
                <a:cubicBezTo>
                  <a:pt x="7072" y="5003"/>
                  <a:pt x="7049" y="5064"/>
                  <a:pt x="7045" y="5135"/>
                </a:cubicBezTo>
                <a:cubicBezTo>
                  <a:pt x="7041" y="5205"/>
                  <a:pt x="7020" y="5259"/>
                  <a:pt x="7020" y="5333"/>
                </a:cubicBezTo>
                <a:cubicBezTo>
                  <a:pt x="7020" y="5370"/>
                  <a:pt x="7036" y="5461"/>
                  <a:pt x="7069" y="5482"/>
                </a:cubicBezTo>
                <a:cubicBezTo>
                  <a:pt x="7094" y="5498"/>
                  <a:pt x="7157" y="5522"/>
                  <a:pt x="7193" y="5507"/>
                </a:cubicBezTo>
                <a:cubicBezTo>
                  <a:pt x="7232" y="5490"/>
                  <a:pt x="7309" y="5471"/>
                  <a:pt x="7342" y="5432"/>
                </a:cubicBezTo>
                <a:cubicBezTo>
                  <a:pt x="7380" y="5388"/>
                  <a:pt x="7414" y="5311"/>
                  <a:pt x="7441" y="5259"/>
                </a:cubicBezTo>
                <a:cubicBezTo>
                  <a:pt x="7472" y="5201"/>
                  <a:pt x="7487" y="5125"/>
                  <a:pt x="7491" y="5060"/>
                </a:cubicBezTo>
                <a:cubicBezTo>
                  <a:pt x="7496" y="4978"/>
                  <a:pt x="7493" y="4905"/>
                  <a:pt x="7466" y="4837"/>
                </a:cubicBezTo>
                <a:cubicBezTo>
                  <a:pt x="7444" y="4782"/>
                  <a:pt x="7422" y="4707"/>
                  <a:pt x="7392" y="4663"/>
                </a:cubicBezTo>
                <a:cubicBezTo>
                  <a:pt x="7370" y="4630"/>
                  <a:pt x="7329" y="4593"/>
                  <a:pt x="7293" y="4589"/>
                </a:cubicBezTo>
                <a:cubicBezTo>
                  <a:pt x="7247" y="4584"/>
                  <a:pt x="7228" y="4588"/>
                  <a:pt x="7193" y="4614"/>
                </a:cubicBezTo>
              </a:path>
              <a:path w="1911" h="2829">
                <a:moveTo>
                  <a:pt x="5680" y="6524"/>
                </a:moveTo>
                <a:cubicBezTo>
                  <a:pt x="5674" y="6568"/>
                  <a:pt x="5668" y="6606"/>
                  <a:pt x="5655" y="6648"/>
                </a:cubicBezTo>
                <a:cubicBezTo>
                  <a:pt x="5633" y="6722"/>
                  <a:pt x="5648" y="6796"/>
                  <a:pt x="5631" y="6871"/>
                </a:cubicBezTo>
                <a:cubicBezTo>
                  <a:pt x="5616" y="6935"/>
                  <a:pt x="5606" y="6976"/>
                  <a:pt x="5606" y="7045"/>
                </a:cubicBezTo>
                <a:cubicBezTo>
                  <a:pt x="5606" y="7098"/>
                  <a:pt x="5630" y="7193"/>
                  <a:pt x="5655" y="7243"/>
                </a:cubicBezTo>
                <a:cubicBezTo>
                  <a:pt x="5677" y="7287"/>
                  <a:pt x="5731" y="7333"/>
                  <a:pt x="5779" y="7342"/>
                </a:cubicBezTo>
                <a:cubicBezTo>
                  <a:pt x="5847" y="7355"/>
                  <a:pt x="5871" y="7349"/>
                  <a:pt x="5928" y="7342"/>
                </a:cubicBezTo>
                <a:cubicBezTo>
                  <a:pt x="5997" y="7334"/>
                  <a:pt x="6040" y="7336"/>
                  <a:pt x="6102" y="7293"/>
                </a:cubicBezTo>
                <a:cubicBezTo>
                  <a:pt x="6138" y="7268"/>
                  <a:pt x="6202" y="7227"/>
                  <a:pt x="6226" y="7193"/>
                </a:cubicBezTo>
                <a:cubicBezTo>
                  <a:pt x="6270" y="7132"/>
                  <a:pt x="6278" y="7086"/>
                  <a:pt x="6300" y="7020"/>
                </a:cubicBezTo>
                <a:cubicBezTo>
                  <a:pt x="6320" y="6961"/>
                  <a:pt x="6343" y="6887"/>
                  <a:pt x="6325" y="6821"/>
                </a:cubicBezTo>
                <a:cubicBezTo>
                  <a:pt x="6302" y="6738"/>
                  <a:pt x="6303" y="6649"/>
                  <a:pt x="6251" y="6573"/>
                </a:cubicBezTo>
                <a:cubicBezTo>
                  <a:pt x="6216" y="6522"/>
                  <a:pt x="6150" y="6435"/>
                  <a:pt x="6102" y="6400"/>
                </a:cubicBezTo>
                <a:cubicBezTo>
                  <a:pt x="6052" y="6363"/>
                  <a:pt x="5986" y="6328"/>
                  <a:pt x="5928" y="6325"/>
                </a:cubicBezTo>
                <a:cubicBezTo>
                  <a:pt x="5869" y="6321"/>
                  <a:pt x="5826" y="6329"/>
                  <a:pt x="5779" y="6350"/>
                </a:cubicBezTo>
                <a:cubicBezTo>
                  <a:pt x="5709" y="6382"/>
                  <a:pt x="5698" y="6416"/>
                  <a:pt x="5655" y="6474"/>
                </a:cubicBezTo>
                <a:cubicBezTo>
                  <a:pt x="5612" y="6532"/>
                  <a:pt x="5624" y="6561"/>
                  <a:pt x="5606" y="6623"/>
                </a:cubicBezTo>
                <a:cubicBezTo>
                  <a:pt x="5589" y="6682"/>
                  <a:pt x="5581" y="6708"/>
                  <a:pt x="5581" y="677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982880" y="2901960"/>
            <a:ext cx="1054080" cy="509400"/>
          </a:xfrm>
          <a:custGeom>
            <a:avLst/>
            <a:gdLst/>
            <a:ahLst/>
            <a:rect l="l" t="t" r="r" b="b"/>
            <a:pathLst>
              <a:path w="2928" h="1414">
                <a:moveTo>
                  <a:pt x="5507" y="8954"/>
                </a:moveTo>
                <a:cubicBezTo>
                  <a:pt x="5598" y="8954"/>
                  <a:pt x="5688" y="8954"/>
                  <a:pt x="5779" y="8954"/>
                </a:cubicBezTo>
              </a:path>
              <a:path w="2928" h="1414">
                <a:moveTo>
                  <a:pt x="5507" y="9227"/>
                </a:moveTo>
                <a:cubicBezTo>
                  <a:pt x="5643" y="9227"/>
                  <a:pt x="5760" y="9242"/>
                  <a:pt x="5879" y="9178"/>
                </a:cubicBezTo>
              </a:path>
              <a:path w="2928" h="1414">
                <a:moveTo>
                  <a:pt x="6152" y="8682"/>
                </a:moveTo>
                <a:cubicBezTo>
                  <a:pt x="6215" y="8682"/>
                  <a:pt x="6242" y="8660"/>
                  <a:pt x="6300" y="8657"/>
                </a:cubicBezTo>
                <a:cubicBezTo>
                  <a:pt x="6366" y="8657"/>
                  <a:pt x="6383" y="8657"/>
                  <a:pt x="6424" y="8657"/>
                </a:cubicBezTo>
              </a:path>
              <a:path w="2928" h="1414">
                <a:moveTo>
                  <a:pt x="6747" y="8434"/>
                </a:moveTo>
                <a:cubicBezTo>
                  <a:pt x="6757" y="8367"/>
                  <a:pt x="6773" y="8358"/>
                  <a:pt x="6821" y="8310"/>
                </a:cubicBezTo>
                <a:cubicBezTo>
                  <a:pt x="6842" y="8289"/>
                  <a:pt x="6913" y="8247"/>
                  <a:pt x="6945" y="8260"/>
                </a:cubicBezTo>
                <a:cubicBezTo>
                  <a:pt x="6987" y="8277"/>
                  <a:pt x="7027" y="8286"/>
                  <a:pt x="7045" y="8334"/>
                </a:cubicBezTo>
                <a:cubicBezTo>
                  <a:pt x="7072" y="8408"/>
                  <a:pt x="7032" y="8523"/>
                  <a:pt x="7020" y="8582"/>
                </a:cubicBezTo>
                <a:cubicBezTo>
                  <a:pt x="7005" y="8657"/>
                  <a:pt x="6980" y="8710"/>
                  <a:pt x="6945" y="8781"/>
                </a:cubicBezTo>
                <a:cubicBezTo>
                  <a:pt x="6891" y="8891"/>
                  <a:pt x="6834" y="9000"/>
                  <a:pt x="6772" y="9103"/>
                </a:cubicBezTo>
                <a:cubicBezTo>
                  <a:pt x="6752" y="9136"/>
                  <a:pt x="6675" y="9264"/>
                  <a:pt x="6697" y="9302"/>
                </a:cubicBezTo>
                <a:cubicBezTo>
                  <a:pt x="6705" y="9302"/>
                  <a:pt x="6714" y="9302"/>
                  <a:pt x="6722" y="9302"/>
                </a:cubicBezTo>
                <a:cubicBezTo>
                  <a:pt x="6756" y="9285"/>
                  <a:pt x="6787" y="9271"/>
                  <a:pt x="6821" y="9252"/>
                </a:cubicBezTo>
                <a:cubicBezTo>
                  <a:pt x="6863" y="9229"/>
                  <a:pt x="6870" y="9227"/>
                  <a:pt x="6921" y="9227"/>
                </a:cubicBezTo>
                <a:cubicBezTo>
                  <a:pt x="6988" y="9227"/>
                  <a:pt x="7016" y="9234"/>
                  <a:pt x="7069" y="9252"/>
                </a:cubicBezTo>
                <a:cubicBezTo>
                  <a:pt x="7111" y="9266"/>
                  <a:pt x="7172" y="9252"/>
                  <a:pt x="7218" y="9252"/>
                </a:cubicBezTo>
              </a:path>
              <a:path w="2928" h="1414">
                <a:moveTo>
                  <a:pt x="7317" y="8434"/>
                </a:moveTo>
                <a:cubicBezTo>
                  <a:pt x="7350" y="8423"/>
                  <a:pt x="7347" y="8394"/>
                  <a:pt x="7367" y="8384"/>
                </a:cubicBezTo>
                <a:cubicBezTo>
                  <a:pt x="7388" y="8374"/>
                  <a:pt x="7444" y="8361"/>
                  <a:pt x="7466" y="8359"/>
                </a:cubicBezTo>
                <a:cubicBezTo>
                  <a:pt x="7520" y="8353"/>
                  <a:pt x="7575" y="8349"/>
                  <a:pt x="7615" y="8384"/>
                </a:cubicBezTo>
                <a:cubicBezTo>
                  <a:pt x="7631" y="8398"/>
                  <a:pt x="7675" y="8461"/>
                  <a:pt x="7665" y="8483"/>
                </a:cubicBezTo>
                <a:cubicBezTo>
                  <a:pt x="7645" y="8528"/>
                  <a:pt x="7610" y="8562"/>
                  <a:pt x="7590" y="8607"/>
                </a:cubicBezTo>
                <a:cubicBezTo>
                  <a:pt x="7576" y="8637"/>
                  <a:pt x="7556" y="8689"/>
                  <a:pt x="7516" y="8706"/>
                </a:cubicBezTo>
                <a:cubicBezTo>
                  <a:pt x="7496" y="8715"/>
                  <a:pt x="7447" y="8731"/>
                  <a:pt x="7491" y="8731"/>
                </a:cubicBezTo>
                <a:cubicBezTo>
                  <a:pt x="7503" y="8731"/>
                  <a:pt x="7546" y="8716"/>
                  <a:pt x="7565" y="8706"/>
                </a:cubicBezTo>
                <a:cubicBezTo>
                  <a:pt x="7590" y="8692"/>
                  <a:pt x="7643" y="8687"/>
                  <a:pt x="7665" y="8731"/>
                </a:cubicBezTo>
                <a:cubicBezTo>
                  <a:pt x="7684" y="8769"/>
                  <a:pt x="7706" y="8835"/>
                  <a:pt x="7714" y="8880"/>
                </a:cubicBezTo>
                <a:cubicBezTo>
                  <a:pt x="7726" y="8952"/>
                  <a:pt x="7737" y="9117"/>
                  <a:pt x="7689" y="9178"/>
                </a:cubicBezTo>
                <a:cubicBezTo>
                  <a:pt x="7671" y="9200"/>
                  <a:pt x="7614" y="9226"/>
                  <a:pt x="7590" y="9252"/>
                </a:cubicBezTo>
                <a:cubicBezTo>
                  <a:pt x="7582" y="9261"/>
                  <a:pt x="7530" y="9346"/>
                  <a:pt x="7491" y="9302"/>
                </a:cubicBezTo>
                <a:cubicBezTo>
                  <a:pt x="7465" y="9273"/>
                  <a:pt x="7436" y="9237"/>
                  <a:pt x="7417" y="9227"/>
                </a:cubicBezTo>
                <a:cubicBezTo>
                  <a:pt x="7375" y="9206"/>
                  <a:pt x="7384" y="9199"/>
                  <a:pt x="7417" y="9178"/>
                </a:cubicBezTo>
              </a:path>
              <a:path w="2928" h="1414">
                <a:moveTo>
                  <a:pt x="8037" y="8483"/>
                </a:moveTo>
                <a:cubicBezTo>
                  <a:pt x="8059" y="8461"/>
                  <a:pt x="8064" y="8452"/>
                  <a:pt x="8086" y="8458"/>
                </a:cubicBezTo>
                <a:cubicBezTo>
                  <a:pt x="8086" y="8516"/>
                  <a:pt x="8074" y="8553"/>
                  <a:pt x="8062" y="8607"/>
                </a:cubicBezTo>
                <a:cubicBezTo>
                  <a:pt x="8052" y="8651"/>
                  <a:pt x="8037" y="8685"/>
                  <a:pt x="8037" y="8731"/>
                </a:cubicBezTo>
                <a:cubicBezTo>
                  <a:pt x="8037" y="8787"/>
                  <a:pt x="8049" y="8805"/>
                  <a:pt x="8062" y="8830"/>
                </a:cubicBezTo>
                <a:cubicBezTo>
                  <a:pt x="8085" y="8875"/>
                  <a:pt x="8087" y="8837"/>
                  <a:pt x="8136" y="8855"/>
                </a:cubicBezTo>
                <a:cubicBezTo>
                  <a:pt x="8221" y="8885"/>
                  <a:pt x="8201" y="8862"/>
                  <a:pt x="8285" y="8855"/>
                </a:cubicBezTo>
                <a:cubicBezTo>
                  <a:pt x="8335" y="8851"/>
                  <a:pt x="8387" y="8825"/>
                  <a:pt x="8434" y="8806"/>
                </a:cubicBezTo>
              </a:path>
              <a:path w="2928" h="1414">
                <a:moveTo>
                  <a:pt x="8359" y="8062"/>
                </a:moveTo>
                <a:cubicBezTo>
                  <a:pt x="8340" y="8298"/>
                  <a:pt x="8310" y="8522"/>
                  <a:pt x="8310" y="8756"/>
                </a:cubicBezTo>
                <a:cubicBezTo>
                  <a:pt x="8310" y="8904"/>
                  <a:pt x="8299" y="9034"/>
                  <a:pt x="8310" y="9178"/>
                </a:cubicBezTo>
                <a:cubicBezTo>
                  <a:pt x="8318" y="9284"/>
                  <a:pt x="8319" y="9370"/>
                  <a:pt x="8334" y="947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911240" y="3963960"/>
            <a:ext cx="115920" cy="117360"/>
          </a:xfrm>
          <a:custGeom>
            <a:avLst/>
            <a:gdLst/>
            <a:ahLst/>
            <a:rect l="l" t="t" r="r" b="b"/>
            <a:pathLst>
              <a:path w="324" h="324">
                <a:moveTo>
                  <a:pt x="5333" y="11013"/>
                </a:moveTo>
                <a:cubicBezTo>
                  <a:pt x="5325" y="11013"/>
                  <a:pt x="5316" y="11013"/>
                  <a:pt x="5308" y="11013"/>
                </a:cubicBezTo>
                <a:cubicBezTo>
                  <a:pt x="5385" y="11013"/>
                  <a:pt x="5442" y="11016"/>
                  <a:pt x="5507" y="11038"/>
                </a:cubicBezTo>
                <a:cubicBezTo>
                  <a:pt x="5543" y="11050"/>
                  <a:pt x="5592" y="11038"/>
                  <a:pt x="5631" y="11038"/>
                </a:cubicBezTo>
              </a:path>
              <a:path w="324" h="324">
                <a:moveTo>
                  <a:pt x="5333" y="11286"/>
                </a:moveTo>
                <a:cubicBezTo>
                  <a:pt x="5365" y="11310"/>
                  <a:pt x="5415" y="11325"/>
                  <a:pt x="5457" y="11336"/>
                </a:cubicBezTo>
                <a:cubicBezTo>
                  <a:pt x="5510" y="11349"/>
                  <a:pt x="5575" y="11336"/>
                  <a:pt x="5631" y="1133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87720" y="3679920"/>
            <a:ext cx="1519200" cy="579240"/>
          </a:xfrm>
          <a:custGeom>
            <a:avLst/>
            <a:gdLst/>
            <a:ahLst/>
            <a:rect l="l" t="t" r="r" b="b"/>
            <a:pathLst>
              <a:path w="4218" h="1613">
                <a:moveTo>
                  <a:pt x="6077" y="11584"/>
                </a:moveTo>
                <a:cubicBezTo>
                  <a:pt x="6077" y="11511"/>
                  <a:pt x="6091" y="11453"/>
                  <a:pt x="6102" y="11385"/>
                </a:cubicBezTo>
                <a:cubicBezTo>
                  <a:pt x="6115" y="11310"/>
                  <a:pt x="6095" y="11259"/>
                  <a:pt x="6127" y="11187"/>
                </a:cubicBezTo>
                <a:cubicBezTo>
                  <a:pt x="6155" y="11123"/>
                  <a:pt x="6142" y="11038"/>
                  <a:pt x="6201" y="10988"/>
                </a:cubicBezTo>
                <a:cubicBezTo>
                  <a:pt x="6225" y="10968"/>
                  <a:pt x="6319" y="10947"/>
                  <a:pt x="6350" y="10964"/>
                </a:cubicBezTo>
                <a:cubicBezTo>
                  <a:pt x="6419" y="11002"/>
                  <a:pt x="6436" y="11081"/>
                  <a:pt x="6474" y="11162"/>
                </a:cubicBezTo>
                <a:cubicBezTo>
                  <a:pt x="6509" y="11237"/>
                  <a:pt x="6520" y="11328"/>
                  <a:pt x="6524" y="11410"/>
                </a:cubicBezTo>
                <a:cubicBezTo>
                  <a:pt x="6527" y="11468"/>
                  <a:pt x="6524" y="11526"/>
                  <a:pt x="6524" y="11584"/>
                </a:cubicBezTo>
                <a:cubicBezTo>
                  <a:pt x="6524" y="11532"/>
                  <a:pt x="6540" y="11536"/>
                  <a:pt x="6548" y="11485"/>
                </a:cubicBezTo>
                <a:cubicBezTo>
                  <a:pt x="6559" y="11417"/>
                  <a:pt x="6556" y="11352"/>
                  <a:pt x="6573" y="11286"/>
                </a:cubicBezTo>
                <a:cubicBezTo>
                  <a:pt x="6597" y="11196"/>
                  <a:pt x="6618" y="11091"/>
                  <a:pt x="6672" y="11013"/>
                </a:cubicBezTo>
                <a:cubicBezTo>
                  <a:pt x="6697" y="10977"/>
                  <a:pt x="6734" y="10948"/>
                  <a:pt x="6772" y="10939"/>
                </a:cubicBezTo>
                <a:cubicBezTo>
                  <a:pt x="6828" y="10926"/>
                  <a:pt x="6892" y="10996"/>
                  <a:pt x="6921" y="11038"/>
                </a:cubicBezTo>
                <a:cubicBezTo>
                  <a:pt x="6977" y="11118"/>
                  <a:pt x="6971" y="11200"/>
                  <a:pt x="6995" y="11286"/>
                </a:cubicBezTo>
                <a:cubicBezTo>
                  <a:pt x="7017" y="11366"/>
                  <a:pt x="7041" y="11448"/>
                  <a:pt x="7045" y="11534"/>
                </a:cubicBezTo>
                <a:cubicBezTo>
                  <a:pt x="7047" y="11584"/>
                  <a:pt x="7023" y="11673"/>
                  <a:pt x="7069" y="11708"/>
                </a:cubicBezTo>
                <a:cubicBezTo>
                  <a:pt x="7069" y="11736"/>
                  <a:pt x="7071" y="11742"/>
                  <a:pt x="7094" y="11708"/>
                </a:cubicBezTo>
              </a:path>
              <a:path w="4218" h="1613">
                <a:moveTo>
                  <a:pt x="7243" y="10220"/>
                </a:moveTo>
                <a:cubicBezTo>
                  <a:pt x="7309" y="10220"/>
                  <a:pt x="7383" y="10206"/>
                  <a:pt x="7441" y="10244"/>
                </a:cubicBezTo>
                <a:cubicBezTo>
                  <a:pt x="7487" y="10275"/>
                  <a:pt x="7560" y="10317"/>
                  <a:pt x="7590" y="10368"/>
                </a:cubicBezTo>
                <a:cubicBezTo>
                  <a:pt x="7617" y="10414"/>
                  <a:pt x="7576" y="10459"/>
                  <a:pt x="7565" y="10492"/>
                </a:cubicBezTo>
                <a:cubicBezTo>
                  <a:pt x="7553" y="10529"/>
                  <a:pt x="7531" y="10554"/>
                  <a:pt x="7491" y="10567"/>
                </a:cubicBezTo>
                <a:cubicBezTo>
                  <a:pt x="7472" y="10573"/>
                  <a:pt x="7437" y="10567"/>
                  <a:pt x="7417" y="10567"/>
                </a:cubicBezTo>
                <a:cubicBezTo>
                  <a:pt x="7456" y="10597"/>
                  <a:pt x="7498" y="10608"/>
                  <a:pt x="7541" y="10641"/>
                </a:cubicBezTo>
                <a:cubicBezTo>
                  <a:pt x="7581" y="10671"/>
                  <a:pt x="7615" y="10724"/>
                  <a:pt x="7640" y="10765"/>
                </a:cubicBezTo>
                <a:cubicBezTo>
                  <a:pt x="7660" y="10798"/>
                  <a:pt x="7685" y="10875"/>
                  <a:pt x="7665" y="10914"/>
                </a:cubicBezTo>
                <a:cubicBezTo>
                  <a:pt x="7642" y="10960"/>
                  <a:pt x="7519" y="10939"/>
                  <a:pt x="7491" y="10939"/>
                </a:cubicBezTo>
                <a:cubicBezTo>
                  <a:pt x="7467" y="10939"/>
                  <a:pt x="7389" y="10926"/>
                  <a:pt x="7367" y="10914"/>
                </a:cubicBezTo>
                <a:cubicBezTo>
                  <a:pt x="7344" y="10891"/>
                  <a:pt x="7340" y="10883"/>
                  <a:pt x="7317" y="10889"/>
                </a:cubicBezTo>
              </a:path>
              <a:path w="4218" h="1613">
                <a:moveTo>
                  <a:pt x="8086" y="10740"/>
                </a:moveTo>
                <a:cubicBezTo>
                  <a:pt x="8102" y="10854"/>
                  <a:pt x="8131" y="10974"/>
                  <a:pt x="8136" y="11088"/>
                </a:cubicBezTo>
                <a:cubicBezTo>
                  <a:pt x="8139" y="11161"/>
                  <a:pt x="8141" y="11265"/>
                  <a:pt x="8161" y="11336"/>
                </a:cubicBezTo>
                <a:cubicBezTo>
                  <a:pt x="8168" y="11360"/>
                  <a:pt x="8230" y="11500"/>
                  <a:pt x="8161" y="11385"/>
                </a:cubicBezTo>
              </a:path>
              <a:path w="4218" h="1613">
                <a:moveTo>
                  <a:pt x="7938" y="11063"/>
                </a:moveTo>
                <a:cubicBezTo>
                  <a:pt x="8070" y="11063"/>
                  <a:pt x="8202" y="11063"/>
                  <a:pt x="8334" y="11063"/>
                </a:cubicBezTo>
              </a:path>
              <a:path w="4218" h="1613">
                <a:moveTo>
                  <a:pt x="8657" y="10740"/>
                </a:moveTo>
                <a:cubicBezTo>
                  <a:pt x="8704" y="10658"/>
                  <a:pt x="8764" y="10631"/>
                  <a:pt x="8855" y="10616"/>
                </a:cubicBezTo>
                <a:cubicBezTo>
                  <a:pt x="8899" y="10609"/>
                  <a:pt x="8990" y="10642"/>
                  <a:pt x="9029" y="10666"/>
                </a:cubicBezTo>
                <a:cubicBezTo>
                  <a:pt x="9059" y="10684"/>
                  <a:pt x="9067" y="10759"/>
                  <a:pt x="9054" y="10790"/>
                </a:cubicBezTo>
                <a:cubicBezTo>
                  <a:pt x="9033" y="10840"/>
                  <a:pt x="8949" y="10913"/>
                  <a:pt x="8905" y="10939"/>
                </a:cubicBezTo>
                <a:cubicBezTo>
                  <a:pt x="8854" y="10969"/>
                  <a:pt x="8787" y="11019"/>
                  <a:pt x="8731" y="11038"/>
                </a:cubicBezTo>
                <a:cubicBezTo>
                  <a:pt x="8692" y="11051"/>
                  <a:pt x="8721" y="11050"/>
                  <a:pt x="8682" y="11063"/>
                </a:cubicBezTo>
                <a:cubicBezTo>
                  <a:pt x="8691" y="11026"/>
                  <a:pt x="8718" y="11001"/>
                  <a:pt x="8756" y="10988"/>
                </a:cubicBezTo>
                <a:cubicBezTo>
                  <a:pt x="8803" y="10972"/>
                  <a:pt x="8845" y="11002"/>
                  <a:pt x="8880" y="11013"/>
                </a:cubicBezTo>
                <a:cubicBezTo>
                  <a:pt x="8960" y="11037"/>
                  <a:pt x="9018" y="11139"/>
                  <a:pt x="9054" y="11212"/>
                </a:cubicBezTo>
                <a:cubicBezTo>
                  <a:pt x="9087" y="11279"/>
                  <a:pt x="9099" y="11411"/>
                  <a:pt x="9079" y="11485"/>
                </a:cubicBezTo>
                <a:cubicBezTo>
                  <a:pt x="9054" y="11578"/>
                  <a:pt x="9004" y="11604"/>
                  <a:pt x="8930" y="11633"/>
                </a:cubicBezTo>
                <a:cubicBezTo>
                  <a:pt x="8853" y="11663"/>
                  <a:pt x="8732" y="11655"/>
                  <a:pt x="8657" y="11609"/>
                </a:cubicBezTo>
                <a:cubicBezTo>
                  <a:pt x="8621" y="11587"/>
                  <a:pt x="8597" y="11564"/>
                  <a:pt x="8582" y="11534"/>
                </a:cubicBezTo>
                <a:cubicBezTo>
                  <a:pt x="8593" y="11489"/>
                  <a:pt x="8641" y="11439"/>
                  <a:pt x="8682" y="11410"/>
                </a:cubicBezTo>
                <a:cubicBezTo>
                  <a:pt x="8759" y="11355"/>
                  <a:pt x="8850" y="11312"/>
                  <a:pt x="8930" y="11261"/>
                </a:cubicBezTo>
              </a:path>
              <a:path w="4218" h="1613">
                <a:moveTo>
                  <a:pt x="9302" y="11187"/>
                </a:moveTo>
                <a:cubicBezTo>
                  <a:pt x="9343" y="11306"/>
                  <a:pt x="9365" y="11365"/>
                  <a:pt x="9327" y="11485"/>
                </a:cubicBezTo>
                <a:cubicBezTo>
                  <a:pt x="9307" y="11549"/>
                  <a:pt x="9302" y="11589"/>
                  <a:pt x="9302" y="11658"/>
                </a:cubicBezTo>
                <a:cubicBezTo>
                  <a:pt x="9302" y="11666"/>
                  <a:pt x="9302" y="11675"/>
                  <a:pt x="9302" y="11683"/>
                </a:cubicBezTo>
                <a:cubicBezTo>
                  <a:pt x="9316" y="11642"/>
                  <a:pt x="9320" y="11652"/>
                  <a:pt x="9327" y="11609"/>
                </a:cubicBezTo>
                <a:cubicBezTo>
                  <a:pt x="9340" y="11534"/>
                  <a:pt x="9348" y="11458"/>
                  <a:pt x="9376" y="11385"/>
                </a:cubicBezTo>
                <a:cubicBezTo>
                  <a:pt x="9402" y="11318"/>
                  <a:pt x="9408" y="11250"/>
                  <a:pt x="9451" y="11187"/>
                </a:cubicBezTo>
                <a:cubicBezTo>
                  <a:pt x="9491" y="11129"/>
                  <a:pt x="9516" y="11129"/>
                  <a:pt x="9575" y="11162"/>
                </a:cubicBezTo>
                <a:cubicBezTo>
                  <a:pt x="9613" y="11183"/>
                  <a:pt x="9665" y="11296"/>
                  <a:pt x="9674" y="11336"/>
                </a:cubicBezTo>
                <a:cubicBezTo>
                  <a:pt x="9693" y="11421"/>
                  <a:pt x="9662" y="11506"/>
                  <a:pt x="9649" y="11584"/>
                </a:cubicBezTo>
                <a:cubicBezTo>
                  <a:pt x="9645" y="11608"/>
                  <a:pt x="9657" y="11586"/>
                  <a:pt x="9649" y="11609"/>
                </a:cubicBezTo>
                <a:cubicBezTo>
                  <a:pt x="9659" y="11532"/>
                  <a:pt x="9662" y="11532"/>
                  <a:pt x="9699" y="11460"/>
                </a:cubicBezTo>
                <a:cubicBezTo>
                  <a:pt x="9738" y="11385"/>
                  <a:pt x="9777" y="11344"/>
                  <a:pt x="9823" y="11286"/>
                </a:cubicBezTo>
                <a:cubicBezTo>
                  <a:pt x="9864" y="11235"/>
                  <a:pt x="9906" y="11148"/>
                  <a:pt x="9996" y="11187"/>
                </a:cubicBezTo>
                <a:cubicBezTo>
                  <a:pt x="10063" y="11216"/>
                  <a:pt x="10141" y="11348"/>
                  <a:pt x="10170" y="11410"/>
                </a:cubicBezTo>
                <a:cubicBezTo>
                  <a:pt x="10221" y="11521"/>
                  <a:pt x="10275" y="11609"/>
                  <a:pt x="10294" y="11733"/>
                </a:cubicBezTo>
                <a:cubicBezTo>
                  <a:pt x="10303" y="11795"/>
                  <a:pt x="10291" y="11788"/>
                  <a:pt x="10269" y="1183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(x) = 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x - 2|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(7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(0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(-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(n + 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2187720" y="1643040"/>
            <a:ext cx="411120" cy="1652760"/>
          </a:xfrm>
          <a:custGeom>
            <a:avLst/>
            <a:gdLst/>
            <a:ahLst/>
            <a:rect l="l" t="t" r="r" b="b"/>
            <a:pathLst>
              <a:path w="1142" h="4590">
                <a:moveTo>
                  <a:pt x="6201" y="4589"/>
                </a:moveTo>
                <a:cubicBezTo>
                  <a:pt x="6209" y="4581"/>
                  <a:pt x="6218" y="4572"/>
                  <a:pt x="6226" y="4564"/>
                </a:cubicBezTo>
                <a:cubicBezTo>
                  <a:pt x="6244" y="4618"/>
                  <a:pt x="6257" y="4565"/>
                  <a:pt x="6300" y="4589"/>
                </a:cubicBezTo>
                <a:cubicBezTo>
                  <a:pt x="6308" y="4597"/>
                  <a:pt x="6317" y="4606"/>
                  <a:pt x="6325" y="4614"/>
                </a:cubicBezTo>
                <a:cubicBezTo>
                  <a:pt x="6371" y="4591"/>
                  <a:pt x="6450" y="4574"/>
                  <a:pt x="6499" y="4564"/>
                </a:cubicBezTo>
                <a:cubicBezTo>
                  <a:pt x="6525" y="4559"/>
                  <a:pt x="6697" y="4564"/>
                  <a:pt x="6648" y="4564"/>
                </a:cubicBezTo>
              </a:path>
              <a:path w="1142" h="4590">
                <a:moveTo>
                  <a:pt x="6152" y="4663"/>
                </a:moveTo>
                <a:cubicBezTo>
                  <a:pt x="6137" y="4749"/>
                  <a:pt x="6106" y="4833"/>
                  <a:pt x="6102" y="4911"/>
                </a:cubicBezTo>
                <a:cubicBezTo>
                  <a:pt x="6098" y="4995"/>
                  <a:pt x="6090" y="5058"/>
                  <a:pt x="6077" y="5135"/>
                </a:cubicBezTo>
                <a:cubicBezTo>
                  <a:pt x="6071" y="5173"/>
                  <a:pt x="6077" y="5220"/>
                  <a:pt x="6077" y="5259"/>
                </a:cubicBezTo>
                <a:cubicBezTo>
                  <a:pt x="6113" y="5254"/>
                  <a:pt x="6136" y="5255"/>
                  <a:pt x="6152" y="5234"/>
                </a:cubicBezTo>
                <a:cubicBezTo>
                  <a:pt x="6169" y="5211"/>
                  <a:pt x="6184" y="5163"/>
                  <a:pt x="6201" y="5135"/>
                </a:cubicBezTo>
                <a:cubicBezTo>
                  <a:pt x="6237" y="5075"/>
                  <a:pt x="6246" y="5091"/>
                  <a:pt x="6276" y="5060"/>
                </a:cubicBezTo>
                <a:cubicBezTo>
                  <a:pt x="6308" y="5027"/>
                  <a:pt x="6342" y="5055"/>
                  <a:pt x="6375" y="5085"/>
                </a:cubicBezTo>
                <a:cubicBezTo>
                  <a:pt x="6417" y="5122"/>
                  <a:pt x="6448" y="5185"/>
                  <a:pt x="6474" y="5234"/>
                </a:cubicBezTo>
                <a:cubicBezTo>
                  <a:pt x="6529" y="5337"/>
                  <a:pt x="6548" y="5415"/>
                  <a:pt x="6548" y="5531"/>
                </a:cubicBezTo>
                <a:cubicBezTo>
                  <a:pt x="6548" y="5614"/>
                  <a:pt x="6537" y="5655"/>
                  <a:pt x="6499" y="5730"/>
                </a:cubicBezTo>
                <a:cubicBezTo>
                  <a:pt x="6463" y="5802"/>
                  <a:pt x="6395" y="5819"/>
                  <a:pt x="6325" y="5854"/>
                </a:cubicBezTo>
                <a:cubicBezTo>
                  <a:pt x="6257" y="5889"/>
                  <a:pt x="6213" y="5887"/>
                  <a:pt x="6152" y="5854"/>
                </a:cubicBezTo>
                <a:cubicBezTo>
                  <a:pt x="6111" y="5832"/>
                  <a:pt x="6074" y="5820"/>
                  <a:pt x="6077" y="5755"/>
                </a:cubicBezTo>
                <a:cubicBezTo>
                  <a:pt x="6077" y="5720"/>
                  <a:pt x="6082" y="5702"/>
                  <a:pt x="6102" y="5680"/>
                </a:cubicBezTo>
              </a:path>
              <a:path w="1142" h="4590">
                <a:moveTo>
                  <a:pt x="6821" y="4837"/>
                </a:moveTo>
                <a:cubicBezTo>
                  <a:pt x="6841" y="4870"/>
                  <a:pt x="6862" y="4917"/>
                  <a:pt x="6846" y="4961"/>
                </a:cubicBezTo>
                <a:cubicBezTo>
                  <a:pt x="6822" y="5027"/>
                  <a:pt x="6785" y="5091"/>
                  <a:pt x="6772" y="5159"/>
                </a:cubicBezTo>
                <a:cubicBezTo>
                  <a:pt x="6828" y="5202"/>
                  <a:pt x="6860" y="5191"/>
                  <a:pt x="6921" y="5184"/>
                </a:cubicBezTo>
                <a:cubicBezTo>
                  <a:pt x="6970" y="5178"/>
                  <a:pt x="7027" y="5186"/>
                  <a:pt x="7069" y="5159"/>
                </a:cubicBezTo>
                <a:cubicBezTo>
                  <a:pt x="7151" y="5107"/>
                  <a:pt x="7213" y="5054"/>
                  <a:pt x="7218" y="4961"/>
                </a:cubicBezTo>
                <a:cubicBezTo>
                  <a:pt x="7218" y="4903"/>
                  <a:pt x="7218" y="4878"/>
                  <a:pt x="7218" y="4837"/>
                </a:cubicBezTo>
              </a:path>
              <a:path w="1142" h="4590">
                <a:moveTo>
                  <a:pt x="7144" y="4564"/>
                </a:moveTo>
                <a:cubicBezTo>
                  <a:pt x="7156" y="4658"/>
                  <a:pt x="7169" y="4736"/>
                  <a:pt x="7169" y="4837"/>
                </a:cubicBezTo>
                <a:cubicBezTo>
                  <a:pt x="7169" y="5167"/>
                  <a:pt x="7150" y="5505"/>
                  <a:pt x="7193" y="5829"/>
                </a:cubicBezTo>
                <a:cubicBezTo>
                  <a:pt x="7203" y="5901"/>
                  <a:pt x="7186" y="5959"/>
                  <a:pt x="7169" y="6028"/>
                </a:cubicBezTo>
              </a:path>
              <a:path w="1142" h="4590">
                <a:moveTo>
                  <a:pt x="6201" y="6573"/>
                </a:moveTo>
                <a:cubicBezTo>
                  <a:pt x="6178" y="6596"/>
                  <a:pt x="6170" y="6600"/>
                  <a:pt x="6176" y="6623"/>
                </a:cubicBezTo>
                <a:cubicBezTo>
                  <a:pt x="6193" y="6577"/>
                  <a:pt x="6195" y="6536"/>
                  <a:pt x="6226" y="6499"/>
                </a:cubicBezTo>
                <a:cubicBezTo>
                  <a:pt x="6259" y="6458"/>
                  <a:pt x="6302" y="6411"/>
                  <a:pt x="6350" y="6400"/>
                </a:cubicBezTo>
                <a:cubicBezTo>
                  <a:pt x="6402" y="6388"/>
                  <a:pt x="6428" y="6408"/>
                  <a:pt x="6449" y="6424"/>
                </a:cubicBezTo>
                <a:cubicBezTo>
                  <a:pt x="6488" y="6455"/>
                  <a:pt x="6474" y="6503"/>
                  <a:pt x="6474" y="6548"/>
                </a:cubicBezTo>
                <a:cubicBezTo>
                  <a:pt x="6474" y="6608"/>
                  <a:pt x="6458" y="6626"/>
                  <a:pt x="6449" y="6672"/>
                </a:cubicBezTo>
                <a:cubicBezTo>
                  <a:pt x="6437" y="6731"/>
                  <a:pt x="6422" y="6770"/>
                  <a:pt x="6400" y="6821"/>
                </a:cubicBezTo>
                <a:cubicBezTo>
                  <a:pt x="6387" y="6852"/>
                  <a:pt x="6358" y="6915"/>
                  <a:pt x="6350" y="6945"/>
                </a:cubicBezTo>
                <a:cubicBezTo>
                  <a:pt x="6335" y="7004"/>
                  <a:pt x="6329" y="7019"/>
                  <a:pt x="6300" y="7069"/>
                </a:cubicBezTo>
                <a:cubicBezTo>
                  <a:pt x="6271" y="7118"/>
                  <a:pt x="6256" y="7169"/>
                  <a:pt x="6226" y="7218"/>
                </a:cubicBezTo>
                <a:cubicBezTo>
                  <a:pt x="6202" y="7258"/>
                  <a:pt x="6176" y="7319"/>
                  <a:pt x="6152" y="7367"/>
                </a:cubicBezTo>
                <a:cubicBezTo>
                  <a:pt x="6131" y="7410"/>
                  <a:pt x="6043" y="7501"/>
                  <a:pt x="6077" y="7466"/>
                </a:cubicBezTo>
                <a:cubicBezTo>
                  <a:pt x="6089" y="7454"/>
                  <a:pt x="6119" y="7430"/>
                  <a:pt x="6152" y="7441"/>
                </a:cubicBezTo>
                <a:cubicBezTo>
                  <a:pt x="6192" y="7455"/>
                  <a:pt x="6202" y="7463"/>
                  <a:pt x="6251" y="7466"/>
                </a:cubicBezTo>
                <a:cubicBezTo>
                  <a:pt x="6312" y="7469"/>
                  <a:pt x="6348" y="7482"/>
                  <a:pt x="6400" y="7491"/>
                </a:cubicBezTo>
                <a:cubicBezTo>
                  <a:pt x="6466" y="7502"/>
                  <a:pt x="6489" y="7476"/>
                  <a:pt x="6548" y="7466"/>
                </a:cubicBezTo>
                <a:cubicBezTo>
                  <a:pt x="6596" y="7458"/>
                  <a:pt x="6638" y="7465"/>
                  <a:pt x="6672" y="7417"/>
                </a:cubicBezTo>
                <a:cubicBezTo>
                  <a:pt x="6694" y="7386"/>
                  <a:pt x="6704" y="7395"/>
                  <a:pt x="6672" y="7342"/>
                </a:cubicBezTo>
              </a:path>
              <a:path w="1142" h="4590">
                <a:moveTo>
                  <a:pt x="6499" y="8037"/>
                </a:moveTo>
                <a:cubicBezTo>
                  <a:pt x="6499" y="7968"/>
                  <a:pt x="6502" y="8077"/>
                  <a:pt x="6499" y="8086"/>
                </a:cubicBezTo>
                <a:cubicBezTo>
                  <a:pt x="6485" y="8126"/>
                  <a:pt x="6444" y="8180"/>
                  <a:pt x="6424" y="8210"/>
                </a:cubicBezTo>
                <a:cubicBezTo>
                  <a:pt x="6395" y="8254"/>
                  <a:pt x="6386" y="8266"/>
                  <a:pt x="6400" y="8260"/>
                </a:cubicBezTo>
                <a:cubicBezTo>
                  <a:pt x="6435" y="8246"/>
                  <a:pt x="6457" y="8235"/>
                  <a:pt x="6499" y="8235"/>
                </a:cubicBezTo>
                <a:cubicBezTo>
                  <a:pt x="6571" y="8235"/>
                  <a:pt x="6629" y="8247"/>
                  <a:pt x="6697" y="8260"/>
                </a:cubicBezTo>
                <a:cubicBezTo>
                  <a:pt x="6815" y="8282"/>
                  <a:pt x="6856" y="8308"/>
                  <a:pt x="6945" y="8235"/>
                </a:cubicBezTo>
              </a:path>
              <a:path w="1142" h="4590">
                <a:moveTo>
                  <a:pt x="6921" y="7863"/>
                </a:moveTo>
                <a:cubicBezTo>
                  <a:pt x="6910" y="7954"/>
                  <a:pt x="6881" y="8042"/>
                  <a:pt x="6871" y="8136"/>
                </a:cubicBezTo>
                <a:cubicBezTo>
                  <a:pt x="6860" y="8248"/>
                  <a:pt x="6828" y="8368"/>
                  <a:pt x="6846" y="8483"/>
                </a:cubicBezTo>
                <a:cubicBezTo>
                  <a:pt x="6865" y="8609"/>
                  <a:pt x="6904" y="8730"/>
                  <a:pt x="6921" y="8855"/>
                </a:cubicBezTo>
                <a:cubicBezTo>
                  <a:pt x="6934" y="8949"/>
                  <a:pt x="6921" y="9057"/>
                  <a:pt x="6921" y="915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714760" y="3679920"/>
            <a:ext cx="142920" cy="115920"/>
          </a:xfrm>
          <a:custGeom>
            <a:avLst/>
            <a:gdLst/>
            <a:ahLst/>
            <a:rect l="l" t="t" r="r" b="b"/>
            <a:pathLst>
              <a:path w="398" h="323">
                <a:moveTo>
                  <a:pt x="7541" y="10244"/>
                </a:moveTo>
                <a:cubicBezTo>
                  <a:pt x="7565" y="10209"/>
                  <a:pt x="7609" y="10220"/>
                  <a:pt x="7665" y="10220"/>
                </a:cubicBezTo>
                <a:cubicBezTo>
                  <a:pt x="7714" y="10220"/>
                  <a:pt x="7731" y="10220"/>
                  <a:pt x="7764" y="10220"/>
                </a:cubicBezTo>
              </a:path>
              <a:path w="398" h="323">
                <a:moveTo>
                  <a:pt x="7764" y="10542"/>
                </a:moveTo>
                <a:cubicBezTo>
                  <a:pt x="7833" y="10542"/>
                  <a:pt x="7875" y="10541"/>
                  <a:pt x="7938" y="1051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81240" y="3303720"/>
            <a:ext cx="1411560" cy="644400"/>
          </a:xfrm>
          <a:custGeom>
            <a:avLst/>
            <a:gdLst/>
            <a:ahLst/>
            <a:rect l="l" t="t" r="r" b="b"/>
            <a:pathLst>
              <a:path w="3920" h="1787">
                <a:moveTo>
                  <a:pt x="8756" y="9451"/>
                </a:moveTo>
                <a:cubicBezTo>
                  <a:pt x="8721" y="9520"/>
                  <a:pt x="8721" y="9594"/>
                  <a:pt x="8706" y="9674"/>
                </a:cubicBezTo>
                <a:cubicBezTo>
                  <a:pt x="8679" y="9816"/>
                  <a:pt x="8626" y="9959"/>
                  <a:pt x="8582" y="10096"/>
                </a:cubicBezTo>
                <a:cubicBezTo>
                  <a:pt x="8546" y="10209"/>
                  <a:pt x="8558" y="10325"/>
                  <a:pt x="8558" y="10443"/>
                </a:cubicBezTo>
                <a:cubicBezTo>
                  <a:pt x="8558" y="10532"/>
                  <a:pt x="8566" y="10658"/>
                  <a:pt x="8607" y="10740"/>
                </a:cubicBezTo>
                <a:cubicBezTo>
                  <a:pt x="8631" y="10788"/>
                  <a:pt x="8667" y="10855"/>
                  <a:pt x="8731" y="10840"/>
                </a:cubicBezTo>
                <a:cubicBezTo>
                  <a:pt x="8748" y="10832"/>
                  <a:pt x="8764" y="10823"/>
                  <a:pt x="8781" y="10815"/>
                </a:cubicBezTo>
              </a:path>
              <a:path w="3920" h="1787">
                <a:moveTo>
                  <a:pt x="9054" y="10170"/>
                </a:moveTo>
                <a:cubicBezTo>
                  <a:pt x="9073" y="10267"/>
                  <a:pt x="9102" y="10392"/>
                  <a:pt x="9079" y="10492"/>
                </a:cubicBezTo>
                <a:cubicBezTo>
                  <a:pt x="9061" y="10569"/>
                  <a:pt x="9054" y="10634"/>
                  <a:pt x="9054" y="10716"/>
                </a:cubicBezTo>
                <a:cubicBezTo>
                  <a:pt x="9054" y="10740"/>
                  <a:pt x="9054" y="10749"/>
                  <a:pt x="9054" y="10765"/>
                </a:cubicBezTo>
                <a:cubicBezTo>
                  <a:pt x="9054" y="10637"/>
                  <a:pt x="9064" y="10514"/>
                  <a:pt x="9079" y="10393"/>
                </a:cubicBezTo>
                <a:cubicBezTo>
                  <a:pt x="9092" y="10292"/>
                  <a:pt x="9081" y="10238"/>
                  <a:pt x="9128" y="10145"/>
                </a:cubicBezTo>
                <a:cubicBezTo>
                  <a:pt x="9151" y="10099"/>
                  <a:pt x="9200" y="10035"/>
                  <a:pt x="9252" y="10021"/>
                </a:cubicBezTo>
                <a:cubicBezTo>
                  <a:pt x="9329" y="10000"/>
                  <a:pt x="9371" y="10064"/>
                  <a:pt x="9401" y="10120"/>
                </a:cubicBezTo>
                <a:cubicBezTo>
                  <a:pt x="9443" y="10198"/>
                  <a:pt x="9466" y="10280"/>
                  <a:pt x="9475" y="10368"/>
                </a:cubicBezTo>
                <a:cubicBezTo>
                  <a:pt x="9486" y="10474"/>
                  <a:pt x="9495" y="10586"/>
                  <a:pt x="9500" y="10691"/>
                </a:cubicBezTo>
                <a:cubicBezTo>
                  <a:pt x="9503" y="10759"/>
                  <a:pt x="9512" y="10822"/>
                  <a:pt x="9575" y="10790"/>
                </a:cubicBezTo>
              </a:path>
              <a:path w="3920" h="1787">
                <a:moveTo>
                  <a:pt x="9996" y="9823"/>
                </a:moveTo>
                <a:cubicBezTo>
                  <a:pt x="9996" y="9964"/>
                  <a:pt x="9976" y="10084"/>
                  <a:pt x="9971" y="10220"/>
                </a:cubicBezTo>
                <a:cubicBezTo>
                  <a:pt x="9967" y="10324"/>
                  <a:pt x="9969" y="10444"/>
                  <a:pt x="9996" y="10542"/>
                </a:cubicBezTo>
                <a:cubicBezTo>
                  <a:pt x="10005" y="10575"/>
                  <a:pt x="10028" y="10695"/>
                  <a:pt x="10046" y="10716"/>
                </a:cubicBezTo>
                <a:cubicBezTo>
                  <a:pt x="10054" y="10716"/>
                  <a:pt x="10063" y="10716"/>
                  <a:pt x="10071" y="10716"/>
                </a:cubicBezTo>
              </a:path>
              <a:path w="3920" h="1787">
                <a:moveTo>
                  <a:pt x="9847" y="10269"/>
                </a:moveTo>
                <a:cubicBezTo>
                  <a:pt x="9931" y="10287"/>
                  <a:pt x="10032" y="10312"/>
                  <a:pt x="10120" y="10294"/>
                </a:cubicBezTo>
                <a:cubicBezTo>
                  <a:pt x="10187" y="10272"/>
                  <a:pt x="10205" y="10267"/>
                  <a:pt x="10244" y="10244"/>
                </a:cubicBezTo>
              </a:path>
              <a:path w="3920" h="1787">
                <a:moveTo>
                  <a:pt x="10468" y="9872"/>
                </a:moveTo>
                <a:cubicBezTo>
                  <a:pt x="10468" y="10138"/>
                  <a:pt x="10459" y="10405"/>
                  <a:pt x="10492" y="10666"/>
                </a:cubicBezTo>
                <a:cubicBezTo>
                  <a:pt x="10495" y="10692"/>
                  <a:pt x="10503" y="10826"/>
                  <a:pt x="10517" y="10840"/>
                </a:cubicBezTo>
                <a:cubicBezTo>
                  <a:pt x="10559" y="10840"/>
                  <a:pt x="10567" y="10823"/>
                  <a:pt x="10542" y="10765"/>
                </a:cubicBezTo>
              </a:path>
              <a:path w="3920" h="1787">
                <a:moveTo>
                  <a:pt x="10616" y="9401"/>
                </a:moveTo>
                <a:cubicBezTo>
                  <a:pt x="10735" y="9579"/>
                  <a:pt x="10854" y="9739"/>
                  <a:pt x="10914" y="9947"/>
                </a:cubicBezTo>
                <a:cubicBezTo>
                  <a:pt x="10972" y="10145"/>
                  <a:pt x="10988" y="10337"/>
                  <a:pt x="10988" y="10542"/>
                </a:cubicBezTo>
                <a:cubicBezTo>
                  <a:pt x="10988" y="10654"/>
                  <a:pt x="10962" y="10740"/>
                  <a:pt x="10914" y="10840"/>
                </a:cubicBezTo>
                <a:cubicBezTo>
                  <a:pt x="10891" y="10888"/>
                  <a:pt x="10858" y="10941"/>
                  <a:pt x="10840" y="10964"/>
                </a:cubicBezTo>
                <a:cubicBezTo>
                  <a:pt x="10827" y="10937"/>
                  <a:pt x="10805" y="10931"/>
                  <a:pt x="10815" y="10864"/>
                </a:cubicBezTo>
                <a:cubicBezTo>
                  <a:pt x="10823" y="10823"/>
                  <a:pt x="10832" y="10781"/>
                  <a:pt x="10840" y="10740"/>
                </a:cubicBezTo>
              </a:path>
              <a:path w="3920" h="1787">
                <a:moveTo>
                  <a:pt x="11162" y="9178"/>
                </a:moveTo>
                <a:cubicBezTo>
                  <a:pt x="11272" y="9198"/>
                  <a:pt x="11313" y="9241"/>
                  <a:pt x="11385" y="9327"/>
                </a:cubicBezTo>
                <a:cubicBezTo>
                  <a:pt x="11442" y="9395"/>
                  <a:pt x="11350" y="9435"/>
                  <a:pt x="11336" y="9475"/>
                </a:cubicBezTo>
                <a:cubicBezTo>
                  <a:pt x="11314" y="9536"/>
                  <a:pt x="11335" y="9535"/>
                  <a:pt x="11261" y="9550"/>
                </a:cubicBezTo>
                <a:cubicBezTo>
                  <a:pt x="11316" y="9632"/>
                  <a:pt x="11320" y="9574"/>
                  <a:pt x="11410" y="9599"/>
                </a:cubicBezTo>
                <a:cubicBezTo>
                  <a:pt x="11469" y="9616"/>
                  <a:pt x="11495" y="9624"/>
                  <a:pt x="11559" y="9624"/>
                </a:cubicBezTo>
              </a:path>
              <a:path w="3920" h="1787">
                <a:moveTo>
                  <a:pt x="12154" y="9674"/>
                </a:moveTo>
                <a:cubicBezTo>
                  <a:pt x="12154" y="9843"/>
                  <a:pt x="12162" y="10004"/>
                  <a:pt x="12179" y="10170"/>
                </a:cubicBezTo>
                <a:cubicBezTo>
                  <a:pt x="12187" y="10251"/>
                  <a:pt x="12210" y="10396"/>
                  <a:pt x="12204" y="10468"/>
                </a:cubicBezTo>
                <a:cubicBezTo>
                  <a:pt x="12185" y="10525"/>
                  <a:pt x="12176" y="10532"/>
                  <a:pt x="12179" y="10567"/>
                </a:cubicBezTo>
              </a:path>
              <a:path w="3920" h="1787">
                <a:moveTo>
                  <a:pt x="11832" y="10046"/>
                </a:moveTo>
                <a:cubicBezTo>
                  <a:pt x="12028" y="10019"/>
                  <a:pt x="12209" y="10066"/>
                  <a:pt x="12402" y="10046"/>
                </a:cubicBezTo>
                <a:cubicBezTo>
                  <a:pt x="12427" y="10038"/>
                  <a:pt x="12452" y="10029"/>
                  <a:pt x="12477" y="1002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643280" y="3214800"/>
            <a:ext cx="1160640" cy="955440"/>
          </a:xfrm>
          <a:custGeom>
            <a:avLst/>
            <a:gdLst/>
            <a:ahLst/>
            <a:rect l="l" t="t" r="r" b="b"/>
            <a:pathLst>
              <a:path w="3226" h="2655">
                <a:moveTo>
                  <a:pt x="12948" y="9252"/>
                </a:moveTo>
                <a:cubicBezTo>
                  <a:pt x="12948" y="9478"/>
                  <a:pt x="12951" y="9697"/>
                  <a:pt x="12923" y="9922"/>
                </a:cubicBezTo>
                <a:cubicBezTo>
                  <a:pt x="12900" y="10106"/>
                  <a:pt x="12898" y="10282"/>
                  <a:pt x="12898" y="10468"/>
                </a:cubicBezTo>
                <a:cubicBezTo>
                  <a:pt x="12898" y="10702"/>
                  <a:pt x="12892" y="10934"/>
                  <a:pt x="12923" y="11162"/>
                </a:cubicBezTo>
                <a:cubicBezTo>
                  <a:pt x="12926" y="11183"/>
                  <a:pt x="12939" y="11339"/>
                  <a:pt x="12948" y="11212"/>
                </a:cubicBezTo>
                <a:cubicBezTo>
                  <a:pt x="12948" y="11160"/>
                  <a:pt x="12949" y="11142"/>
                  <a:pt x="12973" y="11112"/>
                </a:cubicBezTo>
              </a:path>
              <a:path w="3226" h="2655">
                <a:moveTo>
                  <a:pt x="13246" y="10244"/>
                </a:moveTo>
                <a:cubicBezTo>
                  <a:pt x="13246" y="10460"/>
                  <a:pt x="13231" y="10679"/>
                  <a:pt x="13271" y="10889"/>
                </a:cubicBezTo>
                <a:cubicBezTo>
                  <a:pt x="13271" y="10897"/>
                  <a:pt x="13271" y="10906"/>
                  <a:pt x="13271" y="10914"/>
                </a:cubicBezTo>
                <a:cubicBezTo>
                  <a:pt x="13302" y="10892"/>
                  <a:pt x="13318" y="10822"/>
                  <a:pt x="13320" y="10765"/>
                </a:cubicBezTo>
                <a:cubicBezTo>
                  <a:pt x="13325" y="10662"/>
                  <a:pt x="13342" y="10569"/>
                  <a:pt x="13345" y="10468"/>
                </a:cubicBezTo>
                <a:cubicBezTo>
                  <a:pt x="13348" y="10367"/>
                  <a:pt x="13357" y="10262"/>
                  <a:pt x="13395" y="10170"/>
                </a:cubicBezTo>
                <a:cubicBezTo>
                  <a:pt x="13422" y="10104"/>
                  <a:pt x="13451" y="10085"/>
                  <a:pt x="13519" y="10071"/>
                </a:cubicBezTo>
                <a:cubicBezTo>
                  <a:pt x="13572" y="10125"/>
                  <a:pt x="13595" y="10169"/>
                  <a:pt x="13618" y="10244"/>
                </a:cubicBezTo>
                <a:cubicBezTo>
                  <a:pt x="13656" y="10371"/>
                  <a:pt x="13702" y="10510"/>
                  <a:pt x="13717" y="10641"/>
                </a:cubicBezTo>
                <a:cubicBezTo>
                  <a:pt x="13726" y="10720"/>
                  <a:pt x="13730" y="10790"/>
                  <a:pt x="13742" y="10864"/>
                </a:cubicBezTo>
                <a:cubicBezTo>
                  <a:pt x="13745" y="10884"/>
                  <a:pt x="13728" y="10992"/>
                  <a:pt x="13791" y="10964"/>
                </a:cubicBezTo>
                <a:cubicBezTo>
                  <a:pt x="13799" y="10956"/>
                  <a:pt x="13808" y="10947"/>
                  <a:pt x="13816" y="10939"/>
                </a:cubicBezTo>
              </a:path>
              <a:path w="3226" h="2655">
                <a:moveTo>
                  <a:pt x="14114" y="9947"/>
                </a:moveTo>
                <a:cubicBezTo>
                  <a:pt x="14114" y="10123"/>
                  <a:pt x="14104" y="10295"/>
                  <a:pt x="14139" y="10468"/>
                </a:cubicBezTo>
                <a:cubicBezTo>
                  <a:pt x="14167" y="10609"/>
                  <a:pt x="14176" y="10729"/>
                  <a:pt x="14238" y="10864"/>
                </a:cubicBezTo>
                <a:cubicBezTo>
                  <a:pt x="14258" y="10905"/>
                  <a:pt x="14267" y="10911"/>
                  <a:pt x="14263" y="10939"/>
                </a:cubicBezTo>
              </a:path>
              <a:path w="3226" h="2655">
                <a:moveTo>
                  <a:pt x="13915" y="10344"/>
                </a:moveTo>
                <a:cubicBezTo>
                  <a:pt x="14000" y="10280"/>
                  <a:pt x="14052" y="10294"/>
                  <a:pt x="14163" y="10294"/>
                </a:cubicBezTo>
                <a:cubicBezTo>
                  <a:pt x="14229" y="10294"/>
                  <a:pt x="14296" y="10294"/>
                  <a:pt x="14362" y="10294"/>
                </a:cubicBezTo>
              </a:path>
              <a:path w="3226" h="2655">
                <a:moveTo>
                  <a:pt x="14635" y="9872"/>
                </a:moveTo>
                <a:cubicBezTo>
                  <a:pt x="14615" y="10039"/>
                  <a:pt x="14589" y="10201"/>
                  <a:pt x="14585" y="10368"/>
                </a:cubicBezTo>
                <a:cubicBezTo>
                  <a:pt x="14582" y="10506"/>
                  <a:pt x="14588" y="10678"/>
                  <a:pt x="14610" y="10815"/>
                </a:cubicBezTo>
                <a:cubicBezTo>
                  <a:pt x="14623" y="10895"/>
                  <a:pt x="14657" y="10988"/>
                  <a:pt x="14684" y="11063"/>
                </a:cubicBezTo>
              </a:path>
              <a:path w="3226" h="2655">
                <a:moveTo>
                  <a:pt x="14833" y="10492"/>
                </a:moveTo>
                <a:cubicBezTo>
                  <a:pt x="14997" y="10485"/>
                  <a:pt x="14989" y="10501"/>
                  <a:pt x="15106" y="10443"/>
                </a:cubicBezTo>
              </a:path>
              <a:path w="3226" h="2655">
                <a:moveTo>
                  <a:pt x="15304" y="10021"/>
                </a:moveTo>
                <a:cubicBezTo>
                  <a:pt x="15402" y="10021"/>
                  <a:pt x="15397" y="10028"/>
                  <a:pt x="15478" y="10071"/>
                </a:cubicBezTo>
                <a:cubicBezTo>
                  <a:pt x="15537" y="10102"/>
                  <a:pt x="15572" y="10123"/>
                  <a:pt x="15577" y="10195"/>
                </a:cubicBezTo>
                <a:cubicBezTo>
                  <a:pt x="15583" y="10281"/>
                  <a:pt x="15558" y="10327"/>
                  <a:pt x="15503" y="10393"/>
                </a:cubicBezTo>
                <a:cubicBezTo>
                  <a:pt x="15443" y="10464"/>
                  <a:pt x="15380" y="10540"/>
                  <a:pt x="15329" y="10616"/>
                </a:cubicBezTo>
                <a:cubicBezTo>
                  <a:pt x="15295" y="10667"/>
                  <a:pt x="15283" y="10755"/>
                  <a:pt x="15280" y="10815"/>
                </a:cubicBezTo>
                <a:cubicBezTo>
                  <a:pt x="15275" y="10899"/>
                  <a:pt x="15287" y="10975"/>
                  <a:pt x="15354" y="11038"/>
                </a:cubicBezTo>
                <a:cubicBezTo>
                  <a:pt x="15404" y="11084"/>
                  <a:pt x="15525" y="11070"/>
                  <a:pt x="15577" y="11038"/>
                </a:cubicBezTo>
                <a:cubicBezTo>
                  <a:pt x="15649" y="10993"/>
                  <a:pt x="15716" y="10900"/>
                  <a:pt x="15776" y="10840"/>
                </a:cubicBezTo>
              </a:path>
              <a:path w="3226" h="2655">
                <a:moveTo>
                  <a:pt x="15776" y="8930"/>
                </a:moveTo>
                <a:cubicBezTo>
                  <a:pt x="15808" y="9055"/>
                  <a:pt x="15809" y="9174"/>
                  <a:pt x="15825" y="9302"/>
                </a:cubicBezTo>
                <a:cubicBezTo>
                  <a:pt x="15880" y="9752"/>
                  <a:pt x="15916" y="10221"/>
                  <a:pt x="15999" y="10666"/>
                </a:cubicBezTo>
                <a:cubicBezTo>
                  <a:pt x="16056" y="10972"/>
                  <a:pt x="16081" y="11278"/>
                  <a:pt x="16123" y="1158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795760" y="4402080"/>
            <a:ext cx="177480" cy="152280"/>
          </a:xfrm>
          <a:custGeom>
            <a:avLst/>
            <a:gdLst/>
            <a:ahLst/>
            <a:rect l="l" t="t" r="r" b="b"/>
            <a:pathLst>
              <a:path w="497" h="422">
                <a:moveTo>
                  <a:pt x="7764" y="12229"/>
                </a:moveTo>
                <a:cubicBezTo>
                  <a:pt x="7853" y="12229"/>
                  <a:pt x="7936" y="12239"/>
                  <a:pt x="8012" y="12254"/>
                </a:cubicBezTo>
                <a:cubicBezTo>
                  <a:pt x="8053" y="12254"/>
                  <a:pt x="8061" y="12254"/>
                  <a:pt x="8086" y="12254"/>
                </a:cubicBezTo>
              </a:path>
              <a:path w="497" h="422">
                <a:moveTo>
                  <a:pt x="7764" y="12576"/>
                </a:moveTo>
                <a:cubicBezTo>
                  <a:pt x="7918" y="12619"/>
                  <a:pt x="7946" y="12642"/>
                  <a:pt x="8086" y="12601"/>
                </a:cubicBezTo>
                <a:cubicBezTo>
                  <a:pt x="8186" y="12568"/>
                  <a:pt x="8228" y="12539"/>
                  <a:pt x="8260" y="1245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24160" y="4224240"/>
            <a:ext cx="1303560" cy="500040"/>
          </a:xfrm>
          <a:custGeom>
            <a:avLst/>
            <a:gdLst/>
            <a:ahLst/>
            <a:rect l="l" t="t" r="r" b="b"/>
            <a:pathLst>
              <a:path w="3623" h="1390">
                <a:moveTo>
                  <a:pt x="8954" y="12601"/>
                </a:moveTo>
                <a:cubicBezTo>
                  <a:pt x="8954" y="12783"/>
                  <a:pt x="8954" y="12816"/>
                  <a:pt x="8954" y="12923"/>
                </a:cubicBezTo>
                <a:cubicBezTo>
                  <a:pt x="8954" y="12987"/>
                  <a:pt x="8978" y="12855"/>
                  <a:pt x="8979" y="12849"/>
                </a:cubicBezTo>
                <a:cubicBezTo>
                  <a:pt x="9010" y="12672"/>
                  <a:pt x="8975" y="12478"/>
                  <a:pt x="9004" y="12303"/>
                </a:cubicBezTo>
                <a:cubicBezTo>
                  <a:pt x="9013" y="12252"/>
                  <a:pt x="9016" y="12209"/>
                  <a:pt x="9079" y="12204"/>
                </a:cubicBezTo>
                <a:cubicBezTo>
                  <a:pt x="9170" y="12197"/>
                  <a:pt x="9227" y="12228"/>
                  <a:pt x="9277" y="12303"/>
                </a:cubicBezTo>
                <a:cubicBezTo>
                  <a:pt x="9339" y="12396"/>
                  <a:pt x="9355" y="12442"/>
                  <a:pt x="9376" y="12551"/>
                </a:cubicBezTo>
                <a:cubicBezTo>
                  <a:pt x="9398" y="12667"/>
                  <a:pt x="9410" y="12781"/>
                  <a:pt x="9426" y="12898"/>
                </a:cubicBezTo>
                <a:cubicBezTo>
                  <a:pt x="9428" y="12909"/>
                  <a:pt x="9423" y="13058"/>
                  <a:pt x="9451" y="13022"/>
                </a:cubicBezTo>
                <a:cubicBezTo>
                  <a:pt x="9451" y="12989"/>
                  <a:pt x="9451" y="12973"/>
                  <a:pt x="9451" y="12948"/>
                </a:cubicBezTo>
              </a:path>
              <a:path w="3623" h="1390">
                <a:moveTo>
                  <a:pt x="9475" y="11807"/>
                </a:moveTo>
                <a:cubicBezTo>
                  <a:pt x="9505" y="11762"/>
                  <a:pt x="9519" y="11739"/>
                  <a:pt x="9575" y="11733"/>
                </a:cubicBezTo>
                <a:cubicBezTo>
                  <a:pt x="9596" y="11731"/>
                  <a:pt x="9709" y="11761"/>
                  <a:pt x="9723" y="11782"/>
                </a:cubicBezTo>
                <a:cubicBezTo>
                  <a:pt x="9776" y="11862"/>
                  <a:pt x="9768" y="11904"/>
                  <a:pt x="9748" y="11981"/>
                </a:cubicBezTo>
                <a:cubicBezTo>
                  <a:pt x="9738" y="12018"/>
                  <a:pt x="9700" y="12071"/>
                  <a:pt x="9674" y="12105"/>
                </a:cubicBezTo>
                <a:cubicBezTo>
                  <a:pt x="9654" y="12131"/>
                  <a:pt x="9596" y="12129"/>
                  <a:pt x="9624" y="12179"/>
                </a:cubicBezTo>
                <a:cubicBezTo>
                  <a:pt x="9641" y="12210"/>
                  <a:pt x="9743" y="12224"/>
                  <a:pt x="9773" y="12229"/>
                </a:cubicBezTo>
                <a:cubicBezTo>
                  <a:pt x="9828" y="12238"/>
                  <a:pt x="9891" y="12229"/>
                  <a:pt x="9947" y="12229"/>
                </a:cubicBezTo>
              </a:path>
              <a:path w="3623" h="1390">
                <a:moveTo>
                  <a:pt x="10220" y="12278"/>
                </a:moveTo>
                <a:cubicBezTo>
                  <a:pt x="10220" y="12485"/>
                  <a:pt x="10220" y="12691"/>
                  <a:pt x="10220" y="12898"/>
                </a:cubicBezTo>
              </a:path>
              <a:path w="3623" h="1390">
                <a:moveTo>
                  <a:pt x="10021" y="12477"/>
                </a:moveTo>
                <a:cubicBezTo>
                  <a:pt x="10121" y="12494"/>
                  <a:pt x="10221" y="12521"/>
                  <a:pt x="10319" y="12526"/>
                </a:cubicBezTo>
                <a:cubicBezTo>
                  <a:pt x="10335" y="12526"/>
                  <a:pt x="10352" y="12526"/>
                  <a:pt x="10368" y="12526"/>
                </a:cubicBezTo>
              </a:path>
              <a:path w="3623" h="1390">
                <a:moveTo>
                  <a:pt x="10592" y="12129"/>
                </a:moveTo>
                <a:cubicBezTo>
                  <a:pt x="10648" y="12048"/>
                  <a:pt x="10664" y="12011"/>
                  <a:pt x="10765" y="12005"/>
                </a:cubicBezTo>
                <a:cubicBezTo>
                  <a:pt x="10840" y="12001"/>
                  <a:pt x="10863" y="12004"/>
                  <a:pt x="10914" y="12055"/>
                </a:cubicBezTo>
                <a:cubicBezTo>
                  <a:pt x="10951" y="12092"/>
                  <a:pt x="10983" y="12121"/>
                  <a:pt x="10964" y="12179"/>
                </a:cubicBezTo>
                <a:cubicBezTo>
                  <a:pt x="10942" y="12245"/>
                  <a:pt x="10917" y="12313"/>
                  <a:pt x="10889" y="12378"/>
                </a:cubicBezTo>
                <a:cubicBezTo>
                  <a:pt x="10853" y="12460"/>
                  <a:pt x="10778" y="12517"/>
                  <a:pt x="10740" y="12601"/>
                </a:cubicBezTo>
                <a:cubicBezTo>
                  <a:pt x="10703" y="12682"/>
                  <a:pt x="10682" y="12768"/>
                  <a:pt x="10641" y="12849"/>
                </a:cubicBezTo>
                <a:cubicBezTo>
                  <a:pt x="10616" y="12899"/>
                  <a:pt x="10584" y="12980"/>
                  <a:pt x="10641" y="13022"/>
                </a:cubicBezTo>
                <a:cubicBezTo>
                  <a:pt x="10666" y="13040"/>
                  <a:pt x="10705" y="13047"/>
                  <a:pt x="10740" y="13047"/>
                </a:cubicBezTo>
                <a:cubicBezTo>
                  <a:pt x="10819" y="13047"/>
                  <a:pt x="10859" y="13053"/>
                  <a:pt x="10939" y="13047"/>
                </a:cubicBezTo>
                <a:cubicBezTo>
                  <a:pt x="10947" y="13047"/>
                  <a:pt x="10956" y="13047"/>
                  <a:pt x="10964" y="13047"/>
                </a:cubicBezTo>
              </a:path>
              <a:path w="3623" h="1390">
                <a:moveTo>
                  <a:pt x="11162" y="12799"/>
                </a:moveTo>
                <a:cubicBezTo>
                  <a:pt x="11162" y="12929"/>
                  <a:pt x="11177" y="12945"/>
                  <a:pt x="11187" y="13047"/>
                </a:cubicBezTo>
                <a:cubicBezTo>
                  <a:pt x="11187" y="13072"/>
                  <a:pt x="11187" y="13080"/>
                  <a:pt x="11187" y="13047"/>
                </a:cubicBezTo>
                <a:cubicBezTo>
                  <a:pt x="11229" y="12991"/>
                  <a:pt x="11195" y="12940"/>
                  <a:pt x="11212" y="12874"/>
                </a:cubicBezTo>
                <a:cubicBezTo>
                  <a:pt x="11232" y="12799"/>
                  <a:pt x="11221" y="12726"/>
                  <a:pt x="11237" y="12650"/>
                </a:cubicBezTo>
                <a:cubicBezTo>
                  <a:pt x="11248" y="12599"/>
                  <a:pt x="11253" y="12503"/>
                  <a:pt x="11311" y="12477"/>
                </a:cubicBezTo>
                <a:cubicBezTo>
                  <a:pt x="11374" y="12449"/>
                  <a:pt x="11406" y="12517"/>
                  <a:pt x="11435" y="12551"/>
                </a:cubicBezTo>
                <a:cubicBezTo>
                  <a:pt x="11484" y="12609"/>
                  <a:pt x="11498" y="12702"/>
                  <a:pt x="11534" y="12774"/>
                </a:cubicBezTo>
                <a:cubicBezTo>
                  <a:pt x="11562" y="12830"/>
                  <a:pt x="11580" y="12912"/>
                  <a:pt x="11584" y="12973"/>
                </a:cubicBezTo>
                <a:cubicBezTo>
                  <a:pt x="11585" y="12989"/>
                  <a:pt x="11600" y="13126"/>
                  <a:pt x="11633" y="13122"/>
                </a:cubicBezTo>
                <a:cubicBezTo>
                  <a:pt x="11656" y="13099"/>
                  <a:pt x="11664" y="13095"/>
                  <a:pt x="11658" y="13072"/>
                </a:cubicBezTo>
              </a:path>
              <a:path w="3623" h="1390">
                <a:moveTo>
                  <a:pt x="12005" y="12278"/>
                </a:moveTo>
                <a:cubicBezTo>
                  <a:pt x="12005" y="12425"/>
                  <a:pt x="12015" y="12557"/>
                  <a:pt x="12030" y="12700"/>
                </a:cubicBezTo>
                <a:cubicBezTo>
                  <a:pt x="12038" y="12779"/>
                  <a:pt x="12055" y="12842"/>
                  <a:pt x="12055" y="12923"/>
                </a:cubicBezTo>
                <a:cubicBezTo>
                  <a:pt x="12055" y="12948"/>
                  <a:pt x="12055" y="12956"/>
                  <a:pt x="12030" y="12948"/>
                </a:cubicBezTo>
              </a:path>
              <a:path w="3623" h="1390">
                <a:moveTo>
                  <a:pt x="11782" y="12526"/>
                </a:moveTo>
                <a:cubicBezTo>
                  <a:pt x="11897" y="12559"/>
                  <a:pt x="12010" y="12596"/>
                  <a:pt x="12129" y="12601"/>
                </a:cubicBezTo>
                <a:cubicBezTo>
                  <a:pt x="12179" y="12601"/>
                  <a:pt x="12196" y="12601"/>
                  <a:pt x="12229" y="12601"/>
                </a:cubicBezTo>
              </a:path>
              <a:path w="3623" h="1390">
                <a:moveTo>
                  <a:pt x="12526" y="11832"/>
                </a:moveTo>
                <a:cubicBezTo>
                  <a:pt x="12509" y="11970"/>
                  <a:pt x="12502" y="12092"/>
                  <a:pt x="12502" y="12229"/>
                </a:cubicBezTo>
                <a:cubicBezTo>
                  <a:pt x="12502" y="12398"/>
                  <a:pt x="12514" y="12559"/>
                  <a:pt x="12526" y="12725"/>
                </a:cubicBezTo>
                <a:cubicBezTo>
                  <a:pt x="12533" y="12823"/>
                  <a:pt x="12536" y="12907"/>
                  <a:pt x="12551" y="12998"/>
                </a:cubicBezTo>
                <a:cubicBezTo>
                  <a:pt x="12560" y="13051"/>
                  <a:pt x="12530" y="13082"/>
                  <a:pt x="12576" y="1309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724280" y="4259160"/>
            <a:ext cx="1150920" cy="741600"/>
          </a:xfrm>
          <a:custGeom>
            <a:avLst/>
            <a:gdLst/>
            <a:ahLst/>
            <a:rect l="l" t="t" r="r" b="b"/>
            <a:pathLst>
              <a:path w="3200" h="2060">
                <a:moveTo>
                  <a:pt x="13221" y="12254"/>
                </a:moveTo>
                <a:cubicBezTo>
                  <a:pt x="13202" y="12408"/>
                  <a:pt x="13195" y="12525"/>
                  <a:pt x="13221" y="12675"/>
                </a:cubicBezTo>
                <a:cubicBezTo>
                  <a:pt x="13237" y="12770"/>
                  <a:pt x="13259" y="12856"/>
                  <a:pt x="13271" y="12948"/>
                </a:cubicBezTo>
              </a:path>
              <a:path w="3200" h="2060">
                <a:moveTo>
                  <a:pt x="13122" y="12502"/>
                </a:moveTo>
                <a:cubicBezTo>
                  <a:pt x="13251" y="12502"/>
                  <a:pt x="13400" y="12555"/>
                  <a:pt x="13519" y="12551"/>
                </a:cubicBezTo>
                <a:cubicBezTo>
                  <a:pt x="13544" y="12543"/>
                  <a:pt x="13568" y="12534"/>
                  <a:pt x="13593" y="12526"/>
                </a:cubicBezTo>
              </a:path>
              <a:path w="3200" h="2060">
                <a:moveTo>
                  <a:pt x="13965" y="11832"/>
                </a:moveTo>
                <a:cubicBezTo>
                  <a:pt x="13965" y="12108"/>
                  <a:pt x="13975" y="12377"/>
                  <a:pt x="13990" y="12650"/>
                </a:cubicBezTo>
                <a:cubicBezTo>
                  <a:pt x="14000" y="12825"/>
                  <a:pt x="14026" y="12997"/>
                  <a:pt x="14039" y="13171"/>
                </a:cubicBezTo>
                <a:cubicBezTo>
                  <a:pt x="14047" y="13287"/>
                  <a:pt x="14038" y="13430"/>
                  <a:pt x="14064" y="13543"/>
                </a:cubicBezTo>
                <a:cubicBezTo>
                  <a:pt x="14074" y="13586"/>
                  <a:pt x="14080" y="13575"/>
                  <a:pt x="14089" y="13618"/>
                </a:cubicBezTo>
              </a:path>
              <a:path w="3200" h="2060">
                <a:moveTo>
                  <a:pt x="14337" y="12799"/>
                </a:moveTo>
                <a:cubicBezTo>
                  <a:pt x="14337" y="12932"/>
                  <a:pt x="14348" y="13044"/>
                  <a:pt x="14362" y="13171"/>
                </a:cubicBezTo>
                <a:cubicBezTo>
                  <a:pt x="14371" y="13254"/>
                  <a:pt x="14369" y="13316"/>
                  <a:pt x="14387" y="13395"/>
                </a:cubicBezTo>
                <a:cubicBezTo>
                  <a:pt x="14387" y="13403"/>
                  <a:pt x="14387" y="13411"/>
                  <a:pt x="14387" y="13419"/>
                </a:cubicBezTo>
                <a:cubicBezTo>
                  <a:pt x="14436" y="13355"/>
                  <a:pt x="14422" y="13275"/>
                  <a:pt x="14436" y="13196"/>
                </a:cubicBezTo>
                <a:cubicBezTo>
                  <a:pt x="14456" y="13084"/>
                  <a:pt x="14461" y="12988"/>
                  <a:pt x="14461" y="12874"/>
                </a:cubicBezTo>
                <a:cubicBezTo>
                  <a:pt x="14461" y="12788"/>
                  <a:pt x="14488" y="12681"/>
                  <a:pt x="14511" y="12601"/>
                </a:cubicBezTo>
                <a:cubicBezTo>
                  <a:pt x="14531" y="12561"/>
                  <a:pt x="14529" y="12544"/>
                  <a:pt x="14560" y="12551"/>
                </a:cubicBezTo>
                <a:cubicBezTo>
                  <a:pt x="14626" y="12568"/>
                  <a:pt x="14636" y="12608"/>
                  <a:pt x="14660" y="12675"/>
                </a:cubicBezTo>
                <a:cubicBezTo>
                  <a:pt x="14735" y="12887"/>
                  <a:pt x="14791" y="13110"/>
                  <a:pt x="14858" y="13320"/>
                </a:cubicBezTo>
                <a:cubicBezTo>
                  <a:pt x="14871" y="13361"/>
                  <a:pt x="14904" y="13437"/>
                  <a:pt x="14932" y="13395"/>
                </a:cubicBezTo>
                <a:cubicBezTo>
                  <a:pt x="14940" y="13378"/>
                  <a:pt x="14949" y="13362"/>
                  <a:pt x="14957" y="13345"/>
                </a:cubicBezTo>
              </a:path>
              <a:path w="3200" h="2060">
                <a:moveTo>
                  <a:pt x="15056" y="12799"/>
                </a:moveTo>
                <a:cubicBezTo>
                  <a:pt x="15165" y="12760"/>
                  <a:pt x="15196" y="12758"/>
                  <a:pt x="15304" y="12774"/>
                </a:cubicBezTo>
                <a:cubicBezTo>
                  <a:pt x="15383" y="12786"/>
                  <a:pt x="15444" y="12799"/>
                  <a:pt x="15528" y="12799"/>
                </a:cubicBezTo>
              </a:path>
              <a:path w="3200" h="2060">
                <a:moveTo>
                  <a:pt x="15652" y="12353"/>
                </a:moveTo>
                <a:cubicBezTo>
                  <a:pt x="15678" y="12574"/>
                  <a:pt x="15667" y="12803"/>
                  <a:pt x="15701" y="13022"/>
                </a:cubicBezTo>
                <a:cubicBezTo>
                  <a:pt x="15719" y="13139"/>
                  <a:pt x="15763" y="13254"/>
                  <a:pt x="15776" y="13370"/>
                </a:cubicBezTo>
                <a:cubicBezTo>
                  <a:pt x="15785" y="13453"/>
                  <a:pt x="15760" y="13440"/>
                  <a:pt x="15801" y="13494"/>
                </a:cubicBezTo>
              </a:path>
              <a:path w="3200" h="2060">
                <a:moveTo>
                  <a:pt x="16123" y="11956"/>
                </a:moveTo>
                <a:cubicBezTo>
                  <a:pt x="16155" y="12163"/>
                  <a:pt x="16160" y="12371"/>
                  <a:pt x="16197" y="12576"/>
                </a:cubicBezTo>
                <a:cubicBezTo>
                  <a:pt x="16250" y="12870"/>
                  <a:pt x="16275" y="13147"/>
                  <a:pt x="16297" y="13444"/>
                </a:cubicBezTo>
                <a:cubicBezTo>
                  <a:pt x="16321" y="13667"/>
                  <a:pt x="16329" y="13741"/>
                  <a:pt x="16321" y="1389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8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te the table for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(x) =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5257800" y="838080"/>
          <a:ext cx="167652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838080"/>
                    <a:ext cx="16765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447920" y="1981080"/>
          <a:ext cx="6324120" cy="4149360"/>
        </p:xfrm>
        <a:graphic>
          <a:graphicData uri="http://schemas.openxmlformats.org/drawingml/2006/table">
            <a:tbl>
              <a:tblPr/>
              <a:tblGrid>
                <a:gridCol w="3161880"/>
                <a:gridCol w="3162240"/>
              </a:tblGrid>
              <a:tr h="82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"/>
          <p:cNvSpPr/>
          <p:nvPr/>
        </p:nvSpPr>
        <p:spPr>
          <a:xfrm>
            <a:off x="5224320" y="928800"/>
            <a:ext cx="125640" cy="428400"/>
          </a:xfrm>
          <a:custGeom>
            <a:avLst/>
            <a:gdLst/>
            <a:ahLst/>
            <a:rect l="l" t="t" r="r" b="b"/>
            <a:pathLst>
              <a:path w="348" h="1191">
                <a:moveTo>
                  <a:pt x="14858" y="2580"/>
                </a:moveTo>
                <a:cubicBezTo>
                  <a:pt x="14776" y="2620"/>
                  <a:pt x="14762" y="2639"/>
                  <a:pt x="14709" y="2704"/>
                </a:cubicBezTo>
                <a:cubicBezTo>
                  <a:pt x="14655" y="2770"/>
                  <a:pt x="14596" y="2848"/>
                  <a:pt x="14560" y="2927"/>
                </a:cubicBezTo>
                <a:cubicBezTo>
                  <a:pt x="14512" y="3031"/>
                  <a:pt x="14528" y="3147"/>
                  <a:pt x="14536" y="3249"/>
                </a:cubicBezTo>
                <a:cubicBezTo>
                  <a:pt x="14544" y="3359"/>
                  <a:pt x="14542" y="3441"/>
                  <a:pt x="14585" y="3547"/>
                </a:cubicBezTo>
                <a:cubicBezTo>
                  <a:pt x="14624" y="3643"/>
                  <a:pt x="14682" y="3688"/>
                  <a:pt x="14759" y="3746"/>
                </a:cubicBezTo>
                <a:cubicBezTo>
                  <a:pt x="14796" y="3774"/>
                  <a:pt x="14811" y="3770"/>
                  <a:pt x="14858" y="377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697800" y="884160"/>
            <a:ext cx="142560" cy="473040"/>
          </a:xfrm>
          <a:custGeom>
            <a:avLst/>
            <a:gdLst/>
            <a:ahLst/>
            <a:rect l="l" t="t" r="r" b="b"/>
            <a:pathLst>
              <a:path w="397" h="1315">
                <a:moveTo>
                  <a:pt x="18604" y="2456"/>
                </a:moveTo>
                <a:cubicBezTo>
                  <a:pt x="18697" y="2513"/>
                  <a:pt x="18708" y="2573"/>
                  <a:pt x="18777" y="2654"/>
                </a:cubicBezTo>
                <a:cubicBezTo>
                  <a:pt x="18880" y="2776"/>
                  <a:pt x="18912" y="2844"/>
                  <a:pt x="18951" y="3001"/>
                </a:cubicBezTo>
                <a:cubicBezTo>
                  <a:pt x="18990" y="3157"/>
                  <a:pt x="19023" y="3310"/>
                  <a:pt x="19000" y="3473"/>
                </a:cubicBezTo>
                <a:cubicBezTo>
                  <a:pt x="18990" y="3544"/>
                  <a:pt x="18970" y="3633"/>
                  <a:pt x="18926" y="3696"/>
                </a:cubicBezTo>
                <a:cubicBezTo>
                  <a:pt x="18879" y="3763"/>
                  <a:pt x="18833" y="3723"/>
                  <a:pt x="18777" y="3746"/>
                </a:cubicBezTo>
                <a:cubicBezTo>
                  <a:pt x="18716" y="3771"/>
                  <a:pt x="18754" y="3766"/>
                  <a:pt x="18703" y="374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48120" y="3062160"/>
            <a:ext cx="1724040" cy="743040"/>
          </a:xfrm>
          <a:custGeom>
            <a:avLst/>
            <a:gdLst/>
            <a:ahLst/>
            <a:rect l="l" t="t" r="r" b="b"/>
            <a:pathLst>
              <a:path w="4788" h="2060">
                <a:moveTo>
                  <a:pt x="13469" y="9079"/>
                </a:moveTo>
                <a:cubicBezTo>
                  <a:pt x="13539" y="9101"/>
                  <a:pt x="13499" y="9191"/>
                  <a:pt x="13494" y="9252"/>
                </a:cubicBezTo>
                <a:cubicBezTo>
                  <a:pt x="13487" y="9351"/>
                  <a:pt x="13485" y="9456"/>
                  <a:pt x="13519" y="9550"/>
                </a:cubicBezTo>
                <a:cubicBezTo>
                  <a:pt x="13537" y="9601"/>
                  <a:pt x="13580" y="9655"/>
                  <a:pt x="13618" y="9674"/>
                </a:cubicBezTo>
                <a:cubicBezTo>
                  <a:pt x="13674" y="9703"/>
                  <a:pt x="13728" y="9669"/>
                  <a:pt x="13767" y="9624"/>
                </a:cubicBezTo>
                <a:cubicBezTo>
                  <a:pt x="13832" y="9550"/>
                  <a:pt x="13876" y="9462"/>
                  <a:pt x="13915" y="9376"/>
                </a:cubicBezTo>
                <a:cubicBezTo>
                  <a:pt x="13956" y="9285"/>
                  <a:pt x="13971" y="9196"/>
                  <a:pt x="13990" y="9103"/>
                </a:cubicBezTo>
                <a:cubicBezTo>
                  <a:pt x="13990" y="9095"/>
                  <a:pt x="13990" y="9087"/>
                  <a:pt x="13990" y="9079"/>
                </a:cubicBezTo>
                <a:cubicBezTo>
                  <a:pt x="13976" y="9119"/>
                  <a:pt x="13949" y="9183"/>
                  <a:pt x="13940" y="9252"/>
                </a:cubicBezTo>
                <a:cubicBezTo>
                  <a:pt x="13930" y="9325"/>
                  <a:pt x="13931" y="9418"/>
                  <a:pt x="13965" y="9475"/>
                </a:cubicBezTo>
                <a:cubicBezTo>
                  <a:pt x="13978" y="9497"/>
                  <a:pt x="14047" y="9633"/>
                  <a:pt x="14089" y="9624"/>
                </a:cubicBezTo>
                <a:cubicBezTo>
                  <a:pt x="14097" y="9616"/>
                  <a:pt x="14106" y="9607"/>
                  <a:pt x="14114" y="9599"/>
                </a:cubicBezTo>
              </a:path>
              <a:path w="4788" h="2060">
                <a:moveTo>
                  <a:pt x="14263" y="9227"/>
                </a:moveTo>
                <a:cubicBezTo>
                  <a:pt x="14241" y="9339"/>
                  <a:pt x="14238" y="9436"/>
                  <a:pt x="14238" y="9550"/>
                </a:cubicBezTo>
                <a:cubicBezTo>
                  <a:pt x="14238" y="9630"/>
                  <a:pt x="14232" y="9677"/>
                  <a:pt x="14263" y="9748"/>
                </a:cubicBezTo>
                <a:cubicBezTo>
                  <a:pt x="14263" y="9576"/>
                  <a:pt x="14213" y="9297"/>
                  <a:pt x="14288" y="9153"/>
                </a:cubicBezTo>
                <a:cubicBezTo>
                  <a:pt x="14325" y="9083"/>
                  <a:pt x="14334" y="9096"/>
                  <a:pt x="14387" y="9103"/>
                </a:cubicBezTo>
                <a:cubicBezTo>
                  <a:pt x="14469" y="9114"/>
                  <a:pt x="14499" y="9177"/>
                  <a:pt x="14536" y="9252"/>
                </a:cubicBezTo>
                <a:cubicBezTo>
                  <a:pt x="14571" y="9323"/>
                  <a:pt x="14601" y="9396"/>
                  <a:pt x="14610" y="9475"/>
                </a:cubicBezTo>
                <a:cubicBezTo>
                  <a:pt x="14619" y="9554"/>
                  <a:pt x="14623" y="9621"/>
                  <a:pt x="14635" y="9699"/>
                </a:cubicBezTo>
                <a:cubicBezTo>
                  <a:pt x="14635" y="9740"/>
                  <a:pt x="14627" y="9756"/>
                  <a:pt x="14660" y="9748"/>
                </a:cubicBezTo>
              </a:path>
              <a:path w="4788" h="2060">
                <a:moveTo>
                  <a:pt x="15081" y="9103"/>
                </a:moveTo>
                <a:cubicBezTo>
                  <a:pt x="14961" y="9068"/>
                  <a:pt x="14981" y="9087"/>
                  <a:pt x="14883" y="9153"/>
                </a:cubicBezTo>
                <a:cubicBezTo>
                  <a:pt x="14812" y="9200"/>
                  <a:pt x="14798" y="9273"/>
                  <a:pt x="14759" y="9351"/>
                </a:cubicBezTo>
                <a:cubicBezTo>
                  <a:pt x="14709" y="9450"/>
                  <a:pt x="14752" y="9525"/>
                  <a:pt x="14784" y="9624"/>
                </a:cubicBezTo>
                <a:cubicBezTo>
                  <a:pt x="14817" y="9726"/>
                  <a:pt x="14852" y="9773"/>
                  <a:pt x="14957" y="9773"/>
                </a:cubicBezTo>
                <a:cubicBezTo>
                  <a:pt x="15000" y="9773"/>
                  <a:pt x="15014" y="9756"/>
                  <a:pt x="15007" y="9699"/>
                </a:cubicBezTo>
              </a:path>
              <a:path w="4788" h="2060">
                <a:moveTo>
                  <a:pt x="15032" y="8533"/>
                </a:moveTo>
                <a:cubicBezTo>
                  <a:pt x="15026" y="8702"/>
                  <a:pt x="15007" y="8860"/>
                  <a:pt x="15007" y="9029"/>
                </a:cubicBezTo>
                <a:cubicBezTo>
                  <a:pt x="15007" y="9208"/>
                  <a:pt x="14942" y="9549"/>
                  <a:pt x="15032" y="9699"/>
                </a:cubicBezTo>
              </a:path>
              <a:path w="4788" h="2060">
                <a:moveTo>
                  <a:pt x="15304" y="9376"/>
                </a:moveTo>
                <a:cubicBezTo>
                  <a:pt x="15358" y="9360"/>
                  <a:pt x="15442" y="9352"/>
                  <a:pt x="15478" y="9302"/>
                </a:cubicBezTo>
                <a:cubicBezTo>
                  <a:pt x="15525" y="9237"/>
                  <a:pt x="15501" y="9185"/>
                  <a:pt x="15478" y="9153"/>
                </a:cubicBezTo>
                <a:cubicBezTo>
                  <a:pt x="15458" y="9113"/>
                  <a:pt x="15460" y="9096"/>
                  <a:pt x="15429" y="9103"/>
                </a:cubicBezTo>
                <a:cubicBezTo>
                  <a:pt x="15368" y="9156"/>
                  <a:pt x="15312" y="9175"/>
                  <a:pt x="15255" y="9227"/>
                </a:cubicBezTo>
                <a:cubicBezTo>
                  <a:pt x="15210" y="9268"/>
                  <a:pt x="15197" y="9316"/>
                  <a:pt x="15205" y="9376"/>
                </a:cubicBezTo>
                <a:cubicBezTo>
                  <a:pt x="15218" y="9475"/>
                  <a:pt x="15252" y="9622"/>
                  <a:pt x="15329" y="9699"/>
                </a:cubicBezTo>
                <a:cubicBezTo>
                  <a:pt x="15355" y="9725"/>
                  <a:pt x="15477" y="9803"/>
                  <a:pt x="15528" y="9773"/>
                </a:cubicBezTo>
                <a:cubicBezTo>
                  <a:pt x="15591" y="9710"/>
                  <a:pt x="15601" y="9693"/>
                  <a:pt x="15652" y="9674"/>
                </a:cubicBezTo>
              </a:path>
              <a:path w="4788" h="2060">
                <a:moveTo>
                  <a:pt x="16173" y="8607"/>
                </a:moveTo>
                <a:cubicBezTo>
                  <a:pt x="16150" y="8551"/>
                  <a:pt x="16133" y="8473"/>
                  <a:pt x="16049" y="8508"/>
                </a:cubicBezTo>
                <a:cubicBezTo>
                  <a:pt x="15981" y="8537"/>
                  <a:pt x="15939" y="8598"/>
                  <a:pt x="15900" y="8657"/>
                </a:cubicBezTo>
                <a:cubicBezTo>
                  <a:pt x="15837" y="8753"/>
                  <a:pt x="15804" y="8839"/>
                  <a:pt x="15801" y="8954"/>
                </a:cubicBezTo>
                <a:cubicBezTo>
                  <a:pt x="15798" y="9076"/>
                  <a:pt x="15800" y="9209"/>
                  <a:pt x="15825" y="9327"/>
                </a:cubicBezTo>
                <a:cubicBezTo>
                  <a:pt x="15851" y="9447"/>
                  <a:pt x="15868" y="9575"/>
                  <a:pt x="15875" y="9699"/>
                </a:cubicBezTo>
                <a:cubicBezTo>
                  <a:pt x="15875" y="9740"/>
                  <a:pt x="15875" y="9748"/>
                  <a:pt x="15875" y="9773"/>
                </a:cubicBezTo>
                <a:cubicBezTo>
                  <a:pt x="15835" y="9760"/>
                  <a:pt x="15850" y="9755"/>
                  <a:pt x="15850" y="9699"/>
                </a:cubicBezTo>
              </a:path>
              <a:path w="4788" h="2060">
                <a:moveTo>
                  <a:pt x="15602" y="9227"/>
                </a:moveTo>
                <a:cubicBezTo>
                  <a:pt x="15660" y="9158"/>
                  <a:pt x="15703" y="9178"/>
                  <a:pt x="15801" y="9178"/>
                </a:cubicBezTo>
                <a:cubicBezTo>
                  <a:pt x="15920" y="9178"/>
                  <a:pt x="16030" y="9155"/>
                  <a:pt x="16123" y="9227"/>
                </a:cubicBezTo>
                <a:cubicBezTo>
                  <a:pt x="16172" y="9265"/>
                  <a:pt x="16192" y="9273"/>
                  <a:pt x="16197" y="9351"/>
                </a:cubicBezTo>
                <a:cubicBezTo>
                  <a:pt x="16202" y="9439"/>
                  <a:pt x="16179" y="9514"/>
                  <a:pt x="16173" y="9599"/>
                </a:cubicBezTo>
                <a:cubicBezTo>
                  <a:pt x="16169" y="9656"/>
                  <a:pt x="16173" y="9715"/>
                  <a:pt x="16173" y="9773"/>
                </a:cubicBezTo>
                <a:cubicBezTo>
                  <a:pt x="16188" y="9679"/>
                  <a:pt x="16192" y="9630"/>
                  <a:pt x="16197" y="9525"/>
                </a:cubicBezTo>
              </a:path>
              <a:path w="4788" h="2060">
                <a:moveTo>
                  <a:pt x="16297" y="8930"/>
                </a:moveTo>
                <a:cubicBezTo>
                  <a:pt x="16330" y="8879"/>
                  <a:pt x="16334" y="8892"/>
                  <a:pt x="16346" y="8855"/>
                </a:cubicBezTo>
              </a:path>
              <a:path w="4788" h="2060">
                <a:moveTo>
                  <a:pt x="16371" y="9351"/>
                </a:moveTo>
                <a:cubicBezTo>
                  <a:pt x="16389" y="9787"/>
                  <a:pt x="16367" y="9427"/>
                  <a:pt x="16396" y="9599"/>
                </a:cubicBezTo>
                <a:cubicBezTo>
                  <a:pt x="16407" y="9536"/>
                  <a:pt x="16434" y="9486"/>
                  <a:pt x="16446" y="9401"/>
                </a:cubicBezTo>
                <a:cubicBezTo>
                  <a:pt x="16453" y="9349"/>
                  <a:pt x="16472" y="9219"/>
                  <a:pt x="16495" y="9178"/>
                </a:cubicBezTo>
                <a:cubicBezTo>
                  <a:pt x="16512" y="9148"/>
                  <a:pt x="16536" y="9103"/>
                  <a:pt x="16594" y="9103"/>
                </a:cubicBezTo>
                <a:cubicBezTo>
                  <a:pt x="16594" y="9196"/>
                  <a:pt x="16563" y="9320"/>
                  <a:pt x="16570" y="9401"/>
                </a:cubicBezTo>
                <a:cubicBezTo>
                  <a:pt x="16576" y="9474"/>
                  <a:pt x="16609" y="9574"/>
                  <a:pt x="16669" y="9624"/>
                </a:cubicBezTo>
                <a:cubicBezTo>
                  <a:pt x="16696" y="9646"/>
                  <a:pt x="16756" y="9676"/>
                  <a:pt x="16793" y="9699"/>
                </a:cubicBezTo>
                <a:cubicBezTo>
                  <a:pt x="16852" y="9625"/>
                  <a:pt x="16869" y="9627"/>
                  <a:pt x="16917" y="9550"/>
                </a:cubicBezTo>
                <a:cubicBezTo>
                  <a:pt x="16968" y="9468"/>
                  <a:pt x="17013" y="9431"/>
                  <a:pt x="16991" y="9327"/>
                </a:cubicBezTo>
                <a:cubicBezTo>
                  <a:pt x="16983" y="9302"/>
                  <a:pt x="16974" y="9277"/>
                  <a:pt x="16966" y="9252"/>
                </a:cubicBezTo>
                <a:cubicBezTo>
                  <a:pt x="16852" y="9302"/>
                  <a:pt x="16814" y="9344"/>
                  <a:pt x="16842" y="9475"/>
                </a:cubicBezTo>
                <a:cubicBezTo>
                  <a:pt x="16858" y="9551"/>
                  <a:pt x="16916" y="9641"/>
                  <a:pt x="16966" y="9699"/>
                </a:cubicBezTo>
                <a:cubicBezTo>
                  <a:pt x="17026" y="9770"/>
                  <a:pt x="17054" y="9765"/>
                  <a:pt x="17140" y="9773"/>
                </a:cubicBezTo>
              </a:path>
              <a:path w="4788" h="2060">
                <a:moveTo>
                  <a:pt x="17462" y="9252"/>
                </a:moveTo>
                <a:cubicBezTo>
                  <a:pt x="17369" y="9252"/>
                  <a:pt x="17290" y="9244"/>
                  <a:pt x="17239" y="9327"/>
                </a:cubicBezTo>
                <a:cubicBezTo>
                  <a:pt x="17189" y="9410"/>
                  <a:pt x="17214" y="9546"/>
                  <a:pt x="17264" y="9624"/>
                </a:cubicBezTo>
                <a:cubicBezTo>
                  <a:pt x="17303" y="9686"/>
                  <a:pt x="17377" y="9763"/>
                  <a:pt x="17438" y="9773"/>
                </a:cubicBezTo>
                <a:cubicBezTo>
                  <a:pt x="17569" y="9795"/>
                  <a:pt x="17631" y="9726"/>
                  <a:pt x="17686" y="9599"/>
                </a:cubicBezTo>
                <a:cubicBezTo>
                  <a:pt x="17738" y="9479"/>
                  <a:pt x="17756" y="9306"/>
                  <a:pt x="17760" y="9178"/>
                </a:cubicBezTo>
                <a:cubicBezTo>
                  <a:pt x="17763" y="9064"/>
                  <a:pt x="17753" y="8963"/>
                  <a:pt x="17711" y="8855"/>
                </a:cubicBezTo>
                <a:cubicBezTo>
                  <a:pt x="17692" y="8808"/>
                  <a:pt x="17662" y="8772"/>
                  <a:pt x="17636" y="8731"/>
                </a:cubicBezTo>
                <a:cubicBezTo>
                  <a:pt x="17601" y="8789"/>
                  <a:pt x="17610" y="8798"/>
                  <a:pt x="17661" y="8905"/>
                </a:cubicBezTo>
                <a:cubicBezTo>
                  <a:pt x="17748" y="9089"/>
                  <a:pt x="17829" y="9264"/>
                  <a:pt x="17909" y="9451"/>
                </a:cubicBezTo>
                <a:cubicBezTo>
                  <a:pt x="18013" y="9695"/>
                  <a:pt x="18117" y="9962"/>
                  <a:pt x="18182" y="10220"/>
                </a:cubicBezTo>
                <a:cubicBezTo>
                  <a:pt x="18210" y="10386"/>
                  <a:pt x="18223" y="10453"/>
                  <a:pt x="18256" y="1056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911840" y="3813120"/>
            <a:ext cx="919080" cy="465120"/>
          </a:xfrm>
          <a:custGeom>
            <a:avLst/>
            <a:gdLst/>
            <a:ahLst/>
            <a:rect l="l" t="t" r="r" b="b"/>
            <a:pathLst>
              <a:path w="2555" h="1290">
                <a:moveTo>
                  <a:pt x="13742" y="10840"/>
                </a:moveTo>
                <a:cubicBezTo>
                  <a:pt x="13779" y="10803"/>
                  <a:pt x="13779" y="10802"/>
                  <a:pt x="13816" y="10765"/>
                </a:cubicBezTo>
                <a:cubicBezTo>
                  <a:pt x="13847" y="10734"/>
                  <a:pt x="13927" y="10662"/>
                  <a:pt x="13965" y="10641"/>
                </a:cubicBezTo>
                <a:cubicBezTo>
                  <a:pt x="14011" y="10615"/>
                  <a:pt x="14084" y="10594"/>
                  <a:pt x="14139" y="10592"/>
                </a:cubicBezTo>
                <a:cubicBezTo>
                  <a:pt x="14199" y="10589"/>
                  <a:pt x="14273" y="10599"/>
                  <a:pt x="14288" y="10666"/>
                </a:cubicBezTo>
                <a:cubicBezTo>
                  <a:pt x="14301" y="10722"/>
                  <a:pt x="14284" y="10766"/>
                  <a:pt x="14263" y="10815"/>
                </a:cubicBezTo>
                <a:cubicBezTo>
                  <a:pt x="14232" y="10888"/>
                  <a:pt x="14181" y="10925"/>
                  <a:pt x="14139" y="10988"/>
                </a:cubicBezTo>
                <a:cubicBezTo>
                  <a:pt x="14101" y="11046"/>
                  <a:pt x="14085" y="11054"/>
                  <a:pt x="14039" y="11088"/>
                </a:cubicBezTo>
                <a:cubicBezTo>
                  <a:pt x="14006" y="11112"/>
                  <a:pt x="14008" y="11119"/>
                  <a:pt x="13990" y="11137"/>
                </a:cubicBezTo>
                <a:cubicBezTo>
                  <a:pt x="14021" y="11101"/>
                  <a:pt x="14016" y="11074"/>
                  <a:pt x="14089" y="11088"/>
                </a:cubicBezTo>
                <a:cubicBezTo>
                  <a:pt x="14147" y="11099"/>
                  <a:pt x="14182" y="11135"/>
                  <a:pt x="14213" y="11187"/>
                </a:cubicBezTo>
                <a:cubicBezTo>
                  <a:pt x="14268" y="11282"/>
                  <a:pt x="14263" y="11351"/>
                  <a:pt x="14263" y="11460"/>
                </a:cubicBezTo>
                <a:cubicBezTo>
                  <a:pt x="14263" y="11566"/>
                  <a:pt x="14259" y="11637"/>
                  <a:pt x="14213" y="11733"/>
                </a:cubicBezTo>
                <a:cubicBezTo>
                  <a:pt x="14191" y="11779"/>
                  <a:pt x="14097" y="11860"/>
                  <a:pt x="14039" y="11857"/>
                </a:cubicBezTo>
                <a:cubicBezTo>
                  <a:pt x="13931" y="11852"/>
                  <a:pt x="13874" y="11812"/>
                  <a:pt x="13791" y="11757"/>
                </a:cubicBezTo>
                <a:cubicBezTo>
                  <a:pt x="13751" y="11731"/>
                  <a:pt x="13641" y="11696"/>
                  <a:pt x="13643" y="11633"/>
                </a:cubicBezTo>
                <a:cubicBezTo>
                  <a:pt x="13669" y="11527"/>
                  <a:pt x="13681" y="11488"/>
                  <a:pt x="13742" y="11435"/>
                </a:cubicBezTo>
              </a:path>
              <a:path w="2555" h="1290">
                <a:moveTo>
                  <a:pt x="14536" y="10716"/>
                </a:moveTo>
                <a:cubicBezTo>
                  <a:pt x="14536" y="10840"/>
                  <a:pt x="14525" y="10921"/>
                  <a:pt x="14486" y="11038"/>
                </a:cubicBezTo>
                <a:cubicBezTo>
                  <a:pt x="14448" y="11152"/>
                  <a:pt x="14416" y="11265"/>
                  <a:pt x="14412" y="11385"/>
                </a:cubicBezTo>
                <a:cubicBezTo>
                  <a:pt x="14409" y="11502"/>
                  <a:pt x="14449" y="11576"/>
                  <a:pt x="14486" y="11683"/>
                </a:cubicBezTo>
                <a:cubicBezTo>
                  <a:pt x="14517" y="11771"/>
                  <a:pt x="14578" y="11812"/>
                  <a:pt x="14660" y="11857"/>
                </a:cubicBezTo>
                <a:cubicBezTo>
                  <a:pt x="14739" y="11901"/>
                  <a:pt x="14803" y="11880"/>
                  <a:pt x="14858" y="11807"/>
                </a:cubicBezTo>
                <a:cubicBezTo>
                  <a:pt x="14903" y="11748"/>
                  <a:pt x="14938" y="11671"/>
                  <a:pt x="14957" y="11609"/>
                </a:cubicBezTo>
                <a:cubicBezTo>
                  <a:pt x="14979" y="11536"/>
                  <a:pt x="14971" y="11479"/>
                  <a:pt x="14932" y="11435"/>
                </a:cubicBezTo>
                <a:cubicBezTo>
                  <a:pt x="14924" y="11435"/>
                  <a:pt x="14916" y="11435"/>
                  <a:pt x="14908" y="11435"/>
                </a:cubicBezTo>
                <a:cubicBezTo>
                  <a:pt x="14866" y="11459"/>
                  <a:pt x="14857" y="11465"/>
                  <a:pt x="14833" y="11509"/>
                </a:cubicBezTo>
                <a:cubicBezTo>
                  <a:pt x="14806" y="11560"/>
                  <a:pt x="14791" y="11649"/>
                  <a:pt x="14808" y="11708"/>
                </a:cubicBezTo>
                <a:cubicBezTo>
                  <a:pt x="14820" y="11751"/>
                  <a:pt x="14833" y="11847"/>
                  <a:pt x="14858" y="11881"/>
                </a:cubicBezTo>
                <a:cubicBezTo>
                  <a:pt x="14866" y="11881"/>
                  <a:pt x="14875" y="11881"/>
                  <a:pt x="14883" y="11881"/>
                </a:cubicBezTo>
              </a:path>
              <a:path w="2555" h="1290">
                <a:moveTo>
                  <a:pt x="15255" y="11733"/>
                </a:moveTo>
                <a:cubicBezTo>
                  <a:pt x="15288" y="11733"/>
                  <a:pt x="15297" y="11725"/>
                  <a:pt x="15280" y="11683"/>
                </a:cubicBezTo>
              </a:path>
              <a:path w="2555" h="1290">
                <a:moveTo>
                  <a:pt x="15726" y="10765"/>
                </a:moveTo>
                <a:cubicBezTo>
                  <a:pt x="15823" y="10765"/>
                  <a:pt x="15886" y="10761"/>
                  <a:pt x="15974" y="10740"/>
                </a:cubicBezTo>
                <a:cubicBezTo>
                  <a:pt x="16009" y="10740"/>
                  <a:pt x="16027" y="10736"/>
                  <a:pt x="16049" y="10716"/>
                </a:cubicBezTo>
              </a:path>
              <a:path w="2555" h="1290">
                <a:moveTo>
                  <a:pt x="15751" y="10716"/>
                </a:moveTo>
                <a:cubicBezTo>
                  <a:pt x="15710" y="10797"/>
                  <a:pt x="15657" y="10873"/>
                  <a:pt x="15652" y="10964"/>
                </a:cubicBezTo>
                <a:cubicBezTo>
                  <a:pt x="15649" y="11020"/>
                  <a:pt x="15654" y="11091"/>
                  <a:pt x="15677" y="11137"/>
                </a:cubicBezTo>
                <a:cubicBezTo>
                  <a:pt x="15704" y="11191"/>
                  <a:pt x="15771" y="11201"/>
                  <a:pt x="15825" y="11187"/>
                </a:cubicBezTo>
                <a:cubicBezTo>
                  <a:pt x="15880" y="11173"/>
                  <a:pt x="15925" y="11127"/>
                  <a:pt x="15974" y="11112"/>
                </a:cubicBezTo>
                <a:cubicBezTo>
                  <a:pt x="16012" y="11101"/>
                  <a:pt x="16099" y="11102"/>
                  <a:pt x="16123" y="11137"/>
                </a:cubicBezTo>
                <a:cubicBezTo>
                  <a:pt x="16179" y="11218"/>
                  <a:pt x="16194" y="11316"/>
                  <a:pt x="16197" y="11410"/>
                </a:cubicBezTo>
                <a:cubicBezTo>
                  <a:pt x="16200" y="11508"/>
                  <a:pt x="16219" y="11587"/>
                  <a:pt x="16148" y="11658"/>
                </a:cubicBezTo>
                <a:cubicBezTo>
                  <a:pt x="16102" y="11704"/>
                  <a:pt x="16014" y="11726"/>
                  <a:pt x="15949" y="11708"/>
                </a:cubicBezTo>
                <a:cubicBezTo>
                  <a:pt x="15866" y="11685"/>
                  <a:pt x="15783" y="11638"/>
                  <a:pt x="15701" y="1160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4040" y="4626000"/>
            <a:ext cx="814320" cy="500040"/>
          </a:xfrm>
          <a:custGeom>
            <a:avLst/>
            <a:gdLst/>
            <a:ahLst/>
            <a:rect l="l" t="t" r="r" b="b"/>
            <a:pathLst>
              <a:path w="2259" h="1390">
                <a:moveTo>
                  <a:pt x="13791" y="13047"/>
                </a:moveTo>
                <a:cubicBezTo>
                  <a:pt x="13820" y="13018"/>
                  <a:pt x="13829" y="13007"/>
                  <a:pt x="13866" y="12998"/>
                </a:cubicBezTo>
                <a:cubicBezTo>
                  <a:pt x="13866" y="13085"/>
                  <a:pt x="13888" y="13159"/>
                  <a:pt x="13891" y="13246"/>
                </a:cubicBezTo>
                <a:cubicBezTo>
                  <a:pt x="13895" y="13366"/>
                  <a:pt x="13898" y="13480"/>
                  <a:pt x="13891" y="13593"/>
                </a:cubicBezTo>
                <a:cubicBezTo>
                  <a:pt x="13885" y="13696"/>
                  <a:pt x="13878" y="13794"/>
                  <a:pt x="13866" y="13891"/>
                </a:cubicBezTo>
                <a:cubicBezTo>
                  <a:pt x="13856" y="13971"/>
                  <a:pt x="13889" y="14050"/>
                  <a:pt x="13841" y="14114"/>
                </a:cubicBezTo>
                <a:cubicBezTo>
                  <a:pt x="13841" y="14056"/>
                  <a:pt x="13841" y="14015"/>
                  <a:pt x="13841" y="13965"/>
                </a:cubicBezTo>
              </a:path>
              <a:path w="2259" h="1390">
                <a:moveTo>
                  <a:pt x="14114" y="12923"/>
                </a:moveTo>
                <a:cubicBezTo>
                  <a:pt x="14226" y="12856"/>
                  <a:pt x="14220" y="12823"/>
                  <a:pt x="14337" y="12874"/>
                </a:cubicBezTo>
                <a:cubicBezTo>
                  <a:pt x="14456" y="12926"/>
                  <a:pt x="14502" y="12993"/>
                  <a:pt x="14536" y="13122"/>
                </a:cubicBezTo>
                <a:cubicBezTo>
                  <a:pt x="14559" y="13209"/>
                  <a:pt x="14515" y="13262"/>
                  <a:pt x="14461" y="13320"/>
                </a:cubicBezTo>
                <a:cubicBezTo>
                  <a:pt x="14419" y="13365"/>
                  <a:pt x="14360" y="13383"/>
                  <a:pt x="14312" y="13419"/>
                </a:cubicBezTo>
                <a:cubicBezTo>
                  <a:pt x="14281" y="13443"/>
                  <a:pt x="14269" y="13444"/>
                  <a:pt x="14238" y="13469"/>
                </a:cubicBezTo>
                <a:cubicBezTo>
                  <a:pt x="14303" y="13469"/>
                  <a:pt x="14351" y="13467"/>
                  <a:pt x="14412" y="13494"/>
                </a:cubicBezTo>
                <a:cubicBezTo>
                  <a:pt x="14510" y="13538"/>
                  <a:pt x="14521" y="13587"/>
                  <a:pt x="14585" y="13667"/>
                </a:cubicBezTo>
                <a:cubicBezTo>
                  <a:pt x="14685" y="13793"/>
                  <a:pt x="14695" y="13871"/>
                  <a:pt x="14709" y="14039"/>
                </a:cubicBezTo>
                <a:cubicBezTo>
                  <a:pt x="14714" y="14101"/>
                  <a:pt x="14680" y="14190"/>
                  <a:pt x="14610" y="14213"/>
                </a:cubicBezTo>
                <a:cubicBezTo>
                  <a:pt x="14557" y="14230"/>
                  <a:pt x="14481" y="14208"/>
                  <a:pt x="14436" y="14188"/>
                </a:cubicBezTo>
                <a:cubicBezTo>
                  <a:pt x="14386" y="14166"/>
                  <a:pt x="14368" y="14128"/>
                  <a:pt x="14337" y="14089"/>
                </a:cubicBezTo>
                <a:cubicBezTo>
                  <a:pt x="14303" y="14055"/>
                  <a:pt x="14295" y="14034"/>
                  <a:pt x="14312" y="13990"/>
                </a:cubicBezTo>
              </a:path>
              <a:path w="2259" h="1390">
                <a:moveTo>
                  <a:pt x="14932" y="14064"/>
                </a:moveTo>
                <a:cubicBezTo>
                  <a:pt x="15025" y="14110"/>
                  <a:pt x="15000" y="14038"/>
                  <a:pt x="15007" y="13965"/>
                </a:cubicBezTo>
              </a:path>
              <a:path w="2259" h="1390">
                <a:moveTo>
                  <a:pt x="15478" y="13122"/>
                </a:moveTo>
                <a:cubicBezTo>
                  <a:pt x="15650" y="13061"/>
                  <a:pt x="15673" y="13096"/>
                  <a:pt x="15850" y="13122"/>
                </a:cubicBezTo>
                <a:cubicBezTo>
                  <a:pt x="15901" y="13130"/>
                  <a:pt x="15985" y="13139"/>
                  <a:pt x="15999" y="13097"/>
                </a:cubicBezTo>
              </a:path>
              <a:path w="2259" h="1390">
                <a:moveTo>
                  <a:pt x="15453" y="13047"/>
                </a:moveTo>
                <a:cubicBezTo>
                  <a:pt x="15383" y="13188"/>
                  <a:pt x="15341" y="13213"/>
                  <a:pt x="15379" y="13345"/>
                </a:cubicBezTo>
                <a:cubicBezTo>
                  <a:pt x="15398" y="13410"/>
                  <a:pt x="15391" y="13480"/>
                  <a:pt x="15453" y="13519"/>
                </a:cubicBezTo>
                <a:cubicBezTo>
                  <a:pt x="15506" y="13553"/>
                  <a:pt x="15547" y="13565"/>
                  <a:pt x="15602" y="13593"/>
                </a:cubicBezTo>
                <a:cubicBezTo>
                  <a:pt x="15648" y="13616"/>
                  <a:pt x="15701" y="13613"/>
                  <a:pt x="15751" y="13643"/>
                </a:cubicBezTo>
                <a:cubicBezTo>
                  <a:pt x="15809" y="13678"/>
                  <a:pt x="15881" y="13713"/>
                  <a:pt x="15925" y="13767"/>
                </a:cubicBezTo>
                <a:cubicBezTo>
                  <a:pt x="15984" y="13840"/>
                  <a:pt x="16035" y="13971"/>
                  <a:pt x="16049" y="14064"/>
                </a:cubicBezTo>
                <a:cubicBezTo>
                  <a:pt x="16055" y="14106"/>
                  <a:pt x="16062" y="14184"/>
                  <a:pt x="16024" y="14213"/>
                </a:cubicBezTo>
                <a:cubicBezTo>
                  <a:pt x="15948" y="14271"/>
                  <a:pt x="15836" y="14221"/>
                  <a:pt x="15751" y="14213"/>
                </a:cubicBezTo>
                <a:cubicBezTo>
                  <a:pt x="15665" y="14205"/>
                  <a:pt x="15588" y="14195"/>
                  <a:pt x="15503" y="1418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76840" y="5438880"/>
            <a:ext cx="590400" cy="741240"/>
          </a:xfrm>
          <a:custGeom>
            <a:avLst/>
            <a:gdLst/>
            <a:ahLst/>
            <a:rect l="l" t="t" r="r" b="b"/>
            <a:pathLst>
              <a:path w="1638" h="2060">
                <a:moveTo>
                  <a:pt x="13271" y="15825"/>
                </a:moveTo>
                <a:cubicBezTo>
                  <a:pt x="13341" y="15800"/>
                  <a:pt x="13394" y="15801"/>
                  <a:pt x="13469" y="15801"/>
                </a:cubicBezTo>
                <a:cubicBezTo>
                  <a:pt x="13571" y="15801"/>
                  <a:pt x="13648" y="15817"/>
                  <a:pt x="13742" y="15801"/>
                </a:cubicBezTo>
              </a:path>
              <a:path w="1638" h="2060">
                <a:moveTo>
                  <a:pt x="14312" y="15106"/>
                </a:moveTo>
                <a:cubicBezTo>
                  <a:pt x="14344" y="15234"/>
                  <a:pt x="14345" y="15355"/>
                  <a:pt x="14337" y="15478"/>
                </a:cubicBezTo>
                <a:cubicBezTo>
                  <a:pt x="14325" y="15669"/>
                  <a:pt x="14326" y="15860"/>
                  <a:pt x="14312" y="16049"/>
                </a:cubicBezTo>
                <a:cubicBezTo>
                  <a:pt x="14297" y="16248"/>
                  <a:pt x="14333" y="16445"/>
                  <a:pt x="14337" y="16644"/>
                </a:cubicBezTo>
                <a:cubicBezTo>
                  <a:pt x="14339" y="16719"/>
                  <a:pt x="14325" y="16782"/>
                  <a:pt x="14362" y="16842"/>
                </a:cubicBezTo>
              </a:path>
              <a:path w="1638" h="2060">
                <a:moveTo>
                  <a:pt x="14858" y="15304"/>
                </a:moveTo>
                <a:cubicBezTo>
                  <a:pt x="14866" y="15463"/>
                  <a:pt x="14883" y="15615"/>
                  <a:pt x="14883" y="15776"/>
                </a:cubicBezTo>
                <a:cubicBezTo>
                  <a:pt x="14883" y="16007"/>
                  <a:pt x="14908" y="16237"/>
                  <a:pt x="14908" y="16470"/>
                </a:cubicBezTo>
                <a:cubicBezTo>
                  <a:pt x="14908" y="16712"/>
                  <a:pt x="14912" y="16929"/>
                  <a:pt x="14883" y="1716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(x) =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5334120" y="304920"/>
          <a:ext cx="2133360" cy="121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304920"/>
                    <a:ext cx="213336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914400" y="2209680"/>
          <a:ext cx="7162560" cy="3921120"/>
        </p:xfrm>
        <a:graphic>
          <a:graphicData uri="http://schemas.openxmlformats.org/drawingml/2006/table">
            <a:tbl>
              <a:tblPr/>
              <a:tblGrid>
                <a:gridCol w="3581280"/>
                <a:gridCol w="3581280"/>
              </a:tblGrid>
              <a:tr h="78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"/>
          <p:cNvSpPr/>
          <p:nvPr/>
        </p:nvSpPr>
        <p:spPr>
          <a:xfrm>
            <a:off x="4724280" y="3089160"/>
            <a:ext cx="1258920" cy="2867040"/>
          </a:xfrm>
          <a:custGeom>
            <a:avLst/>
            <a:gdLst/>
            <a:ahLst/>
            <a:rect l="l" t="t" r="r" b="b"/>
            <a:pathLst>
              <a:path w="3498" h="7964">
                <a:moveTo>
                  <a:pt x="13841" y="9103"/>
                </a:moveTo>
                <a:cubicBezTo>
                  <a:pt x="13894" y="9058"/>
                  <a:pt x="13880" y="9014"/>
                  <a:pt x="13915" y="8954"/>
                </a:cubicBezTo>
                <a:cubicBezTo>
                  <a:pt x="13925" y="8937"/>
                  <a:pt x="13994" y="8888"/>
                  <a:pt x="14015" y="8855"/>
                </a:cubicBezTo>
                <a:cubicBezTo>
                  <a:pt x="14054" y="8795"/>
                  <a:pt x="14090" y="8790"/>
                  <a:pt x="14139" y="8756"/>
                </a:cubicBezTo>
                <a:cubicBezTo>
                  <a:pt x="14164" y="8739"/>
                  <a:pt x="14229" y="8744"/>
                  <a:pt x="14263" y="8781"/>
                </a:cubicBezTo>
                <a:cubicBezTo>
                  <a:pt x="14308" y="8829"/>
                  <a:pt x="14317" y="8896"/>
                  <a:pt x="14337" y="8954"/>
                </a:cubicBezTo>
                <a:cubicBezTo>
                  <a:pt x="14369" y="9047"/>
                  <a:pt x="14383" y="9154"/>
                  <a:pt x="14387" y="9252"/>
                </a:cubicBezTo>
                <a:cubicBezTo>
                  <a:pt x="14392" y="9377"/>
                  <a:pt x="14351" y="9480"/>
                  <a:pt x="14337" y="9599"/>
                </a:cubicBezTo>
                <a:cubicBezTo>
                  <a:pt x="14321" y="9737"/>
                  <a:pt x="14293" y="9820"/>
                  <a:pt x="14238" y="9947"/>
                </a:cubicBezTo>
                <a:cubicBezTo>
                  <a:pt x="14205" y="10023"/>
                  <a:pt x="14168" y="10109"/>
                  <a:pt x="14089" y="10145"/>
                </a:cubicBezTo>
                <a:cubicBezTo>
                  <a:pt x="14012" y="10180"/>
                  <a:pt x="13977" y="10176"/>
                  <a:pt x="13915" y="10145"/>
                </a:cubicBezTo>
                <a:cubicBezTo>
                  <a:pt x="13842" y="10108"/>
                  <a:pt x="13848" y="10063"/>
                  <a:pt x="13816" y="9996"/>
                </a:cubicBezTo>
                <a:cubicBezTo>
                  <a:pt x="13781" y="9923"/>
                  <a:pt x="13786" y="9893"/>
                  <a:pt x="13816" y="9823"/>
                </a:cubicBezTo>
                <a:cubicBezTo>
                  <a:pt x="13820" y="9813"/>
                  <a:pt x="13907" y="9702"/>
                  <a:pt x="13915" y="9699"/>
                </a:cubicBezTo>
                <a:cubicBezTo>
                  <a:pt x="13974" y="9678"/>
                  <a:pt x="14031" y="9734"/>
                  <a:pt x="14064" y="9773"/>
                </a:cubicBezTo>
                <a:cubicBezTo>
                  <a:pt x="14093" y="9807"/>
                  <a:pt x="14139" y="9885"/>
                  <a:pt x="14163" y="9947"/>
                </a:cubicBezTo>
                <a:cubicBezTo>
                  <a:pt x="14207" y="10060"/>
                  <a:pt x="14223" y="10187"/>
                  <a:pt x="14263" y="10294"/>
                </a:cubicBezTo>
                <a:cubicBezTo>
                  <a:pt x="14277" y="10331"/>
                  <a:pt x="14283" y="10348"/>
                  <a:pt x="14288" y="10393"/>
                </a:cubicBezTo>
                <a:cubicBezTo>
                  <a:pt x="14294" y="10340"/>
                  <a:pt x="14295" y="10333"/>
                  <a:pt x="14312" y="10269"/>
                </a:cubicBezTo>
              </a:path>
              <a:path w="3498" h="7964">
                <a:moveTo>
                  <a:pt x="14684" y="8954"/>
                </a:moveTo>
                <a:cubicBezTo>
                  <a:pt x="14706" y="8976"/>
                  <a:pt x="14723" y="9047"/>
                  <a:pt x="14709" y="9103"/>
                </a:cubicBezTo>
                <a:cubicBezTo>
                  <a:pt x="14691" y="9175"/>
                  <a:pt x="14671" y="9253"/>
                  <a:pt x="14660" y="9327"/>
                </a:cubicBezTo>
                <a:cubicBezTo>
                  <a:pt x="14649" y="9399"/>
                  <a:pt x="14647" y="9411"/>
                  <a:pt x="14660" y="9475"/>
                </a:cubicBezTo>
                <a:cubicBezTo>
                  <a:pt x="14660" y="9492"/>
                  <a:pt x="14660" y="9508"/>
                  <a:pt x="14660" y="9525"/>
                </a:cubicBezTo>
                <a:cubicBezTo>
                  <a:pt x="14839" y="9525"/>
                  <a:pt x="14993" y="9522"/>
                  <a:pt x="15156" y="9475"/>
                </a:cubicBezTo>
                <a:cubicBezTo>
                  <a:pt x="15207" y="9475"/>
                  <a:pt x="15225" y="9474"/>
                  <a:pt x="15255" y="9451"/>
                </a:cubicBezTo>
              </a:path>
              <a:path w="3498" h="7964">
                <a:moveTo>
                  <a:pt x="15106" y="8582"/>
                </a:moveTo>
                <a:cubicBezTo>
                  <a:pt x="15082" y="8734"/>
                  <a:pt x="15081" y="8875"/>
                  <a:pt x="15081" y="9029"/>
                </a:cubicBezTo>
                <a:cubicBezTo>
                  <a:pt x="15081" y="9233"/>
                  <a:pt x="15130" y="9423"/>
                  <a:pt x="15156" y="9624"/>
                </a:cubicBezTo>
                <a:cubicBezTo>
                  <a:pt x="15197" y="9946"/>
                  <a:pt x="15220" y="10270"/>
                  <a:pt x="15255" y="10592"/>
                </a:cubicBezTo>
              </a:path>
              <a:path w="3498" h="7964">
                <a:moveTo>
                  <a:pt x="14560" y="10889"/>
                </a:moveTo>
                <a:cubicBezTo>
                  <a:pt x="14516" y="10834"/>
                  <a:pt x="14477" y="10855"/>
                  <a:pt x="14387" y="10889"/>
                </a:cubicBezTo>
                <a:cubicBezTo>
                  <a:pt x="14310" y="10919"/>
                  <a:pt x="14215" y="10944"/>
                  <a:pt x="14163" y="11013"/>
                </a:cubicBezTo>
                <a:cubicBezTo>
                  <a:pt x="14108" y="11085"/>
                  <a:pt x="14132" y="11187"/>
                  <a:pt x="14139" y="11261"/>
                </a:cubicBezTo>
                <a:cubicBezTo>
                  <a:pt x="14148" y="11360"/>
                  <a:pt x="14206" y="11425"/>
                  <a:pt x="14288" y="11485"/>
                </a:cubicBezTo>
                <a:cubicBezTo>
                  <a:pt x="14355" y="11534"/>
                  <a:pt x="14527" y="11577"/>
                  <a:pt x="14610" y="11584"/>
                </a:cubicBezTo>
                <a:cubicBezTo>
                  <a:pt x="14719" y="11594"/>
                  <a:pt x="14841" y="11579"/>
                  <a:pt x="14932" y="11509"/>
                </a:cubicBezTo>
                <a:cubicBezTo>
                  <a:pt x="15003" y="11454"/>
                  <a:pt x="15048" y="11351"/>
                  <a:pt x="15032" y="11261"/>
                </a:cubicBezTo>
                <a:cubicBezTo>
                  <a:pt x="15012" y="11153"/>
                  <a:pt x="14970" y="11103"/>
                  <a:pt x="14908" y="11013"/>
                </a:cubicBezTo>
                <a:cubicBezTo>
                  <a:pt x="14857" y="10938"/>
                  <a:pt x="14778" y="10906"/>
                  <a:pt x="14684" y="10889"/>
                </a:cubicBezTo>
                <a:cubicBezTo>
                  <a:pt x="14616" y="10876"/>
                  <a:pt x="14541" y="10897"/>
                  <a:pt x="14486" y="10939"/>
                </a:cubicBezTo>
                <a:cubicBezTo>
                  <a:pt x="14419" y="10990"/>
                  <a:pt x="14368" y="11059"/>
                  <a:pt x="14337" y="11137"/>
                </a:cubicBezTo>
                <a:cubicBezTo>
                  <a:pt x="14309" y="11222"/>
                  <a:pt x="14296" y="11256"/>
                  <a:pt x="14263" y="11311"/>
                </a:cubicBezTo>
              </a:path>
              <a:path w="3498" h="7964">
                <a:moveTo>
                  <a:pt x="14461" y="11534"/>
                </a:moveTo>
                <a:cubicBezTo>
                  <a:pt x="14346" y="11579"/>
                  <a:pt x="14275" y="11622"/>
                  <a:pt x="14188" y="11708"/>
                </a:cubicBezTo>
                <a:cubicBezTo>
                  <a:pt x="14141" y="11755"/>
                  <a:pt x="14061" y="11883"/>
                  <a:pt x="14064" y="11956"/>
                </a:cubicBezTo>
                <a:cubicBezTo>
                  <a:pt x="14067" y="12037"/>
                  <a:pt x="14114" y="12141"/>
                  <a:pt x="14163" y="12204"/>
                </a:cubicBezTo>
                <a:cubicBezTo>
                  <a:pt x="14229" y="12288"/>
                  <a:pt x="14339" y="12343"/>
                  <a:pt x="14436" y="12378"/>
                </a:cubicBezTo>
                <a:cubicBezTo>
                  <a:pt x="14520" y="12409"/>
                  <a:pt x="14652" y="12427"/>
                  <a:pt x="14734" y="12378"/>
                </a:cubicBezTo>
                <a:cubicBezTo>
                  <a:pt x="14809" y="12334"/>
                  <a:pt x="14874" y="12261"/>
                  <a:pt x="14908" y="12179"/>
                </a:cubicBezTo>
                <a:cubicBezTo>
                  <a:pt x="14955" y="12065"/>
                  <a:pt x="14961" y="11997"/>
                  <a:pt x="14932" y="11881"/>
                </a:cubicBezTo>
                <a:cubicBezTo>
                  <a:pt x="14903" y="11763"/>
                  <a:pt x="14822" y="11614"/>
                  <a:pt x="14709" y="11559"/>
                </a:cubicBezTo>
                <a:cubicBezTo>
                  <a:pt x="14630" y="11521"/>
                  <a:pt x="14588" y="11508"/>
                  <a:pt x="14511" y="11534"/>
                </a:cubicBezTo>
                <a:cubicBezTo>
                  <a:pt x="14494" y="11542"/>
                  <a:pt x="14478" y="11551"/>
                  <a:pt x="14461" y="11559"/>
                </a:cubicBezTo>
              </a:path>
              <a:path w="3498" h="7964">
                <a:moveTo>
                  <a:pt x="14288" y="15180"/>
                </a:moveTo>
                <a:cubicBezTo>
                  <a:pt x="14224" y="15155"/>
                  <a:pt x="14214" y="15131"/>
                  <a:pt x="14139" y="15131"/>
                </a:cubicBezTo>
                <a:cubicBezTo>
                  <a:pt x="14020" y="15131"/>
                  <a:pt x="14044" y="15162"/>
                  <a:pt x="13965" y="15230"/>
                </a:cubicBezTo>
                <a:cubicBezTo>
                  <a:pt x="13905" y="15282"/>
                  <a:pt x="13880" y="15319"/>
                  <a:pt x="13866" y="15404"/>
                </a:cubicBezTo>
                <a:cubicBezTo>
                  <a:pt x="13858" y="15454"/>
                  <a:pt x="13903" y="15567"/>
                  <a:pt x="13940" y="15602"/>
                </a:cubicBezTo>
                <a:cubicBezTo>
                  <a:pt x="13997" y="15655"/>
                  <a:pt x="14092" y="15675"/>
                  <a:pt x="14163" y="15677"/>
                </a:cubicBezTo>
                <a:cubicBezTo>
                  <a:pt x="14259" y="15680"/>
                  <a:pt x="14356" y="15690"/>
                  <a:pt x="14436" y="15627"/>
                </a:cubicBezTo>
                <a:cubicBezTo>
                  <a:pt x="14518" y="15563"/>
                  <a:pt x="14531" y="15516"/>
                  <a:pt x="14560" y="15429"/>
                </a:cubicBezTo>
                <a:cubicBezTo>
                  <a:pt x="14592" y="15334"/>
                  <a:pt x="14589" y="15277"/>
                  <a:pt x="14560" y="15180"/>
                </a:cubicBezTo>
                <a:cubicBezTo>
                  <a:pt x="14533" y="15091"/>
                  <a:pt x="14494" y="15053"/>
                  <a:pt x="14412" y="15007"/>
                </a:cubicBezTo>
                <a:cubicBezTo>
                  <a:pt x="14323" y="14958"/>
                  <a:pt x="14270" y="14992"/>
                  <a:pt x="14188" y="15032"/>
                </a:cubicBezTo>
                <a:cubicBezTo>
                  <a:pt x="14107" y="15072"/>
                  <a:pt x="14037" y="15168"/>
                  <a:pt x="14015" y="15255"/>
                </a:cubicBezTo>
                <a:cubicBezTo>
                  <a:pt x="13998" y="15323"/>
                  <a:pt x="13996" y="15407"/>
                  <a:pt x="13990" y="15478"/>
                </a:cubicBezTo>
              </a:path>
              <a:path w="3498" h="7964">
                <a:moveTo>
                  <a:pt x="14188" y="15825"/>
                </a:moveTo>
                <a:cubicBezTo>
                  <a:pt x="14098" y="15801"/>
                  <a:pt x="14062" y="15785"/>
                  <a:pt x="13990" y="15850"/>
                </a:cubicBezTo>
                <a:cubicBezTo>
                  <a:pt x="13954" y="15882"/>
                  <a:pt x="13902" y="15925"/>
                  <a:pt x="13891" y="15974"/>
                </a:cubicBezTo>
                <a:cubicBezTo>
                  <a:pt x="13872" y="16055"/>
                  <a:pt x="13870" y="16137"/>
                  <a:pt x="13891" y="16222"/>
                </a:cubicBezTo>
                <a:cubicBezTo>
                  <a:pt x="13912" y="16307"/>
                  <a:pt x="13956" y="16383"/>
                  <a:pt x="14015" y="16446"/>
                </a:cubicBezTo>
                <a:cubicBezTo>
                  <a:pt x="14072" y="16507"/>
                  <a:pt x="14131" y="16540"/>
                  <a:pt x="14213" y="16545"/>
                </a:cubicBezTo>
                <a:cubicBezTo>
                  <a:pt x="14283" y="16549"/>
                  <a:pt x="14333" y="16542"/>
                  <a:pt x="14387" y="16495"/>
                </a:cubicBezTo>
                <a:cubicBezTo>
                  <a:pt x="14439" y="16450"/>
                  <a:pt x="14525" y="16348"/>
                  <a:pt x="14536" y="16272"/>
                </a:cubicBezTo>
                <a:cubicBezTo>
                  <a:pt x="14550" y="16174"/>
                  <a:pt x="14525" y="16088"/>
                  <a:pt x="14511" y="15999"/>
                </a:cubicBezTo>
                <a:cubicBezTo>
                  <a:pt x="14497" y="15909"/>
                  <a:pt x="14454" y="15901"/>
                  <a:pt x="14387" y="15850"/>
                </a:cubicBezTo>
                <a:cubicBezTo>
                  <a:pt x="14325" y="15803"/>
                  <a:pt x="14291" y="15801"/>
                  <a:pt x="14213" y="15801"/>
                </a:cubicBezTo>
                <a:cubicBezTo>
                  <a:pt x="14145" y="15801"/>
                  <a:pt x="14102" y="15869"/>
                  <a:pt x="14064" y="15925"/>
                </a:cubicBezTo>
                <a:cubicBezTo>
                  <a:pt x="14004" y="16016"/>
                  <a:pt x="13988" y="16060"/>
                  <a:pt x="14015" y="16148"/>
                </a:cubicBezTo>
              </a:path>
              <a:path w="3498" h="7964">
                <a:moveTo>
                  <a:pt x="13122" y="13221"/>
                </a:moveTo>
                <a:cubicBezTo>
                  <a:pt x="13199" y="13192"/>
                  <a:pt x="13260" y="13196"/>
                  <a:pt x="13345" y="13196"/>
                </a:cubicBezTo>
                <a:cubicBezTo>
                  <a:pt x="13506" y="13196"/>
                  <a:pt x="13663" y="13189"/>
                  <a:pt x="13816" y="13171"/>
                </a:cubicBezTo>
                <a:cubicBezTo>
                  <a:pt x="13893" y="13162"/>
                  <a:pt x="13949" y="13166"/>
                  <a:pt x="14015" y="13146"/>
                </a:cubicBezTo>
                <a:cubicBezTo>
                  <a:pt x="14023" y="13146"/>
                  <a:pt x="14031" y="13146"/>
                  <a:pt x="14039" y="13146"/>
                </a:cubicBezTo>
                <a:cubicBezTo>
                  <a:pt x="14033" y="13197"/>
                  <a:pt x="14028" y="13246"/>
                  <a:pt x="14015" y="13295"/>
                </a:cubicBezTo>
                <a:cubicBezTo>
                  <a:pt x="13989" y="13393"/>
                  <a:pt x="13968" y="13491"/>
                  <a:pt x="13965" y="13593"/>
                </a:cubicBezTo>
                <a:cubicBezTo>
                  <a:pt x="13958" y="13817"/>
                  <a:pt x="13965" y="14223"/>
                  <a:pt x="13965" y="14362"/>
                </a:cubicBezTo>
              </a:path>
              <a:path w="3498" h="7964">
                <a:moveTo>
                  <a:pt x="14387" y="14387"/>
                </a:moveTo>
                <a:cubicBezTo>
                  <a:pt x="14431" y="14372"/>
                  <a:pt x="14436" y="14317"/>
                  <a:pt x="14461" y="14263"/>
                </a:cubicBezTo>
                <a:cubicBezTo>
                  <a:pt x="14489" y="14206"/>
                  <a:pt x="14500" y="14183"/>
                  <a:pt x="14511" y="14139"/>
                </a:cubicBezTo>
              </a:path>
              <a:path w="3498" h="7964">
                <a:moveTo>
                  <a:pt x="14784" y="13370"/>
                </a:moveTo>
                <a:cubicBezTo>
                  <a:pt x="14903" y="13244"/>
                  <a:pt x="14905" y="13178"/>
                  <a:pt x="15056" y="13246"/>
                </a:cubicBezTo>
                <a:cubicBezTo>
                  <a:pt x="15148" y="13287"/>
                  <a:pt x="15201" y="13401"/>
                  <a:pt x="15230" y="13494"/>
                </a:cubicBezTo>
                <a:cubicBezTo>
                  <a:pt x="15272" y="13629"/>
                  <a:pt x="15278" y="13780"/>
                  <a:pt x="15255" y="13915"/>
                </a:cubicBezTo>
                <a:cubicBezTo>
                  <a:pt x="15229" y="14069"/>
                  <a:pt x="15185" y="14202"/>
                  <a:pt x="15106" y="14337"/>
                </a:cubicBezTo>
                <a:cubicBezTo>
                  <a:pt x="15053" y="14428"/>
                  <a:pt x="14987" y="14476"/>
                  <a:pt x="14908" y="14536"/>
                </a:cubicBezTo>
                <a:cubicBezTo>
                  <a:pt x="14874" y="14561"/>
                  <a:pt x="14841" y="14579"/>
                  <a:pt x="14808" y="14536"/>
                </a:cubicBezTo>
                <a:cubicBezTo>
                  <a:pt x="14758" y="14470"/>
                  <a:pt x="14788" y="14357"/>
                  <a:pt x="14808" y="14288"/>
                </a:cubicBezTo>
                <a:cubicBezTo>
                  <a:pt x="14822" y="14241"/>
                  <a:pt x="14891" y="14143"/>
                  <a:pt x="14932" y="14114"/>
                </a:cubicBezTo>
                <a:cubicBezTo>
                  <a:pt x="14987" y="14075"/>
                  <a:pt x="15025" y="14044"/>
                  <a:pt x="15081" y="14089"/>
                </a:cubicBezTo>
                <a:cubicBezTo>
                  <a:pt x="15145" y="14140"/>
                  <a:pt x="15171" y="14192"/>
                  <a:pt x="15205" y="14263"/>
                </a:cubicBezTo>
                <a:cubicBezTo>
                  <a:pt x="15239" y="14334"/>
                  <a:pt x="15251" y="14421"/>
                  <a:pt x="15280" y="14486"/>
                </a:cubicBezTo>
                <a:cubicBezTo>
                  <a:pt x="15303" y="14538"/>
                  <a:pt x="15322" y="14527"/>
                  <a:pt x="15354" y="14511"/>
                </a:cubicBezTo>
              </a:path>
              <a:path w="3498" h="7964">
                <a:moveTo>
                  <a:pt x="15602" y="13494"/>
                </a:moveTo>
                <a:cubicBezTo>
                  <a:pt x="15670" y="13440"/>
                  <a:pt x="15739" y="13350"/>
                  <a:pt x="15825" y="13345"/>
                </a:cubicBezTo>
                <a:cubicBezTo>
                  <a:pt x="15951" y="13338"/>
                  <a:pt x="15974" y="13390"/>
                  <a:pt x="16049" y="13494"/>
                </a:cubicBezTo>
                <a:cubicBezTo>
                  <a:pt x="16121" y="13594"/>
                  <a:pt x="16162" y="13742"/>
                  <a:pt x="16148" y="13866"/>
                </a:cubicBezTo>
                <a:cubicBezTo>
                  <a:pt x="16133" y="14001"/>
                  <a:pt x="16094" y="14148"/>
                  <a:pt x="16024" y="14263"/>
                </a:cubicBezTo>
                <a:cubicBezTo>
                  <a:pt x="15968" y="14355"/>
                  <a:pt x="15919" y="14433"/>
                  <a:pt x="15825" y="14486"/>
                </a:cubicBezTo>
                <a:cubicBezTo>
                  <a:pt x="15791" y="14505"/>
                  <a:pt x="15743" y="14523"/>
                  <a:pt x="15701" y="14511"/>
                </a:cubicBezTo>
                <a:cubicBezTo>
                  <a:pt x="15673" y="14503"/>
                  <a:pt x="15651" y="14410"/>
                  <a:pt x="15652" y="14387"/>
                </a:cubicBezTo>
                <a:cubicBezTo>
                  <a:pt x="15655" y="14328"/>
                  <a:pt x="15686" y="14253"/>
                  <a:pt x="15751" y="14238"/>
                </a:cubicBezTo>
                <a:cubicBezTo>
                  <a:pt x="15830" y="14219"/>
                  <a:pt x="15955" y="14272"/>
                  <a:pt x="16024" y="14312"/>
                </a:cubicBezTo>
                <a:cubicBezTo>
                  <a:pt x="16118" y="14367"/>
                  <a:pt x="16234" y="14426"/>
                  <a:pt x="16321" y="14486"/>
                </a:cubicBezTo>
                <a:cubicBezTo>
                  <a:pt x="16373" y="14522"/>
                  <a:pt x="16467" y="14603"/>
                  <a:pt x="16545" y="14560"/>
                </a:cubicBezTo>
                <a:cubicBezTo>
                  <a:pt x="16591" y="14514"/>
                  <a:pt x="16605" y="14502"/>
                  <a:pt x="16619" y="1446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Arial"/>
              </a:rPr>
              <a:t>Homework:</a:t>
            </a:r>
            <a:br>
              <a:rPr sz="8500"/>
            </a:br>
            <a:r>
              <a:rPr b="0" lang="en-US" sz="8500" spc="-1" strike="noStrike">
                <a:solidFill>
                  <a:srgbClr val="000000"/>
                </a:solidFill>
                <a:latin typeface="Arial"/>
              </a:rPr>
              <a:t>Page 83</a:t>
            </a:r>
            <a:br>
              <a:rPr sz="8500"/>
            </a:br>
            <a:r>
              <a:rPr b="0" lang="en-US" sz="8500" spc="-1" strike="noStrike">
                <a:solidFill>
                  <a:srgbClr val="000000"/>
                </a:solidFill>
                <a:latin typeface="Arial"/>
              </a:rPr>
              <a:t>#25-43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39:13Z</dcterms:created>
  <dc:creator>jnewman</dc:creator>
  <dc:description/>
  <dc:language>en-US</dc:language>
  <cp:lastModifiedBy>abeason</cp:lastModifiedBy>
  <dcterms:modified xsi:type="dcterms:W3CDTF">2009-04-20T16:33:21Z</dcterms:modified>
  <cp:revision>6</cp:revision>
  <dc:subject/>
  <dc:title>Lesson 1.1 part two</dc:title>
</cp:coreProperties>
</file>